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F09-8092-439D-ADE5-A5A4C546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3064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732-0539-4C0E-8B32-96AD0478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732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D45-B661-45E0-9A35-40081DDC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364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272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364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272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F7C-4F3D-4795-BC41-3C45D2C3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643-3EB5-412D-8F09-B81C4AA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A6D-19E1-4FAB-9A44-657521AF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9D4-05A1-479B-90E1-2756B7B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F9E-3FFF-471D-9ED7-A34BE43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14360" y="152280"/>
            <a:ext cx="8439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1DF-E182-4441-A5F7-D4AD3D5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5D5-DDC9-489F-A120-0EDDDAF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732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AF0-3519-4C06-8D7A-306B643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2A5-5EC9-4695-8991-B32363A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4360" y="152280"/>
            <a:ext cx="843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7960" y="6552720"/>
            <a:ext cx="577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90D1-7245-4403-97F1-A1462750F29B}" type="slidenum">
              <a:rPr b="0" lang="pt-BR" sz="12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309400" y="6858000"/>
            <a:ext cx="990720" cy="914400"/>
          </a:xfrm>
          <a:prstGeom prst="ellipse">
            <a:avLst/>
          </a:prstGeom>
          <a:noFill/>
          <a:ln w="0">
            <a:noFill/>
          </a:ln>
          <a:effectLst>
            <a:outerShdw dist="53966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990612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0120" y="609480"/>
            <a:ext cx="9245520" cy="23623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Programa de Garantia da Atividade Agropecuária - PROAG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3160" y="3580920"/>
            <a:ext cx="7656480" cy="12193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ATNC Cascavel – P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27/02/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btLogoAnimado" descr=""/>
          <p:cNvPicPr/>
          <p:nvPr/>
        </p:nvPicPr>
        <p:blipFill>
          <a:blip r:embed="rId2"/>
          <a:stretch/>
        </p:blipFill>
        <p:spPr>
          <a:xfrm>
            <a:off x="8610480" y="5562720"/>
            <a:ext cx="1067040" cy="103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63880" y="304920"/>
            <a:ext cx="671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ceiro da Agricultur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7920" y="990720"/>
            <a:ext cx="81885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13716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RONAF “C” - INVEST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94716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252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6002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erial disponivel 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219320"/>
            <a:ext cx="899172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809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Verdana"/>
              </a:rPr>
              <a:t>www.atrpr.c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E26-D3D2-42BF-86EE-817F4DE101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63880" y="304920"/>
            <a:ext cx="671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ceiro da Agricultur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920" y="990720"/>
            <a:ext cx="81885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3716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RONAF “C” - INVEST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947160" cy="6848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6252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ut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219320"/>
            <a:ext cx="8991720" cy="84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os importantes sobre Proag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os ampar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tografias e medição de á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dos de acompanh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ório de comprovação de per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603-0DAB-4060-B728-2B6CA29436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pa_PR_preto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5302080"/>
            <a:ext cx="8636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Obrigado pela presenç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D26-5C95-4E39-A9AA-8D054943423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19:09:00Z</dcterms:created>
  <dc:creator>Ministerio da Agricultura</dc:creator>
  <dc:description/>
  <dc:language>en-US</dc:language>
  <cp:lastModifiedBy>Banco do Brasil</cp:lastModifiedBy>
  <cp:lastPrinted>2002-07-02T22:20:43Z</cp:lastPrinted>
  <dcterms:modified xsi:type="dcterms:W3CDTF">2008-02-25T19:50:09Z</dcterms:modified>
  <cp:revision>757</cp:revision>
  <dc:subject/>
  <dc:title> I. CENÁRIO ECONÔMICO MUNDIAL E O AGRONEGÓCIO BRASILEIRO  As estimativas para o ano 2000 apontam para um crescimento da economia mundial, segundo a OCDE, da ordem de 4 %. O comércio mundial crescerá, segundo a OMC, na faixa de 6,5 %.  A América Latina tem perspectiva de crescer em torno de 2,5 %, observando-se  nítida recuperação das crises ocorridas no ano anterior.  A economia brasileira deverá crescer em torno de 3,7% no ano 2000 e 4% no ano 2001. O PIB agropecuário deverá crescer a taxa menor do que o alto índice de 9% registrado no ano de 1999. A meta é alcançar um incremento de  4% na produção agrícola, sendo 2% resultado de ganhos de produtividade.  A participação do agronegócio na formação do PIB continuará com o peso aproximado de 1/3 do total. Este desempenho será muito importante na estabilização do índice de preços de alimentos e contenção dos custos das matérias-primas industriais. A indispensável contribuição dos produtos oriundos da agricultura na pauta de exportações do país será reafirmada com um aumento no saldo da balança comercial setorial, de US$13,4 bilhões, em 1999, para mais de US$15 bilhões no corrente ano. Outro aspecto absolutamente relevante é a manutenção da capacidade de absorção de 24,5 % da força de trabalho do país na atividade agropecuária. A ação do governo, através do Plano Safra 2000/01, reflete a importância do setor e sua inserção no contexto econômico e social, bem como a necessidade de se dinamizar a expansão dos segmentos estratégicos. Destacam-se neste Plano o lançamento de programas específicos destinados a aumentar produtividade  e concretizar investimentos beneficiados com taxa de juros fixa ( 8,75 % ), o aumento no montante de recursos destinado ao financiamento agrícola e a flexibilização das normas e limites no crédito rural.  .</dc:title>
</cp:coreProperties>
</file>