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681-8978-4D41-B0A2-83BAF47B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1FF-274B-429E-99FD-11952A8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904-93C9-46E3-8200-0E0A497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704-50B3-40B9-BDA9-7BFA97D2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EED-339D-4BC6-81B2-4A7128BF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1245-D321-49C7-89D2-0ADC8DF6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040-91B7-477B-AF15-CBF6A25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946-8E35-4539-99A8-77F685A3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4EA-FB14-49FA-8AA3-4D742093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FBD-4268-4776-A0EA-916E98E7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C7E4-5BE3-4329-B524-9D0685B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2DC-50FC-4EA5-B32B-01069FEA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5CD-54E1-45B2-AA47-5454A3C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4E4A-AF7C-453C-9AF5-0DAF3F59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10AD-D7F5-45A8-AA62-1C32546F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97BB-D15F-4A63-8E30-1336D768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D4DA-23EE-47BC-B75E-0D7E13B8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C4A-825D-4F00-8A74-56A70F13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954-A9DF-430F-B15A-8101615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A59-45D1-42F1-AF04-E7029853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BF6-2611-4CEA-BC78-C3C110C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4EF-FDA1-42CF-A600-DC376B1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F58-0EE3-46AA-B50E-012290C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73E-8ABB-4D84-9E7D-C6A1B45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6A93-80FE-4412-9497-C7C7BEB9362E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C02-82B6-4A3F-887B-95D8314808B8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549360"/>
            <a:ext cx="79912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OGRAMA DE GARANTIA DA ATIVIDADE AGROPECUÁRIA – PROAG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GURO DA AGRICULTURA FAMILIAR - SEA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67640" y="648000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04360" y="6465960"/>
            <a:ext cx="539640" cy="39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56360" y="6467400"/>
          <a:ext cx="13525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6467400"/>
                    <a:ext cx="1352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4400" y="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STÓR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5360" y="1125360"/>
            <a:ext cx="8918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O Programa de Garantia da Atividade Agropecuária –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PROAGRO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oi criado pela Lei n° 5.969, de 11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e dezembro de 197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692280"/>
            <a:ext cx="84088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 Seguro da Agricultura Familiar -</a:t>
            </a: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SEAF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(“PROAGRO MAIS”)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foi criado no Âmbito do PROAGRO pela  Resolução 3234 de 31/08/2004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ão instrumentos de política agrícola instituídos para   que o produtor rural tenha garantido um valor complementar para pagamento do  seu  custeio  agrícola,  em casos de ocorrência de fenômenos naturais, pragas e doenças que atinjam bens, rebanhos e plantações.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333360"/>
            <a:ext cx="8497800" cy="61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 PROAGRO e o SEAF tem como objetiv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exonerar o beneficiário do cumprimento de obrigações financeiras em operações de crédito rural de custeio, no caso de perdas das receitas em causas previstas no Manual de Crédito Rural - MC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66ff33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) indenizar os recursos próprios do beneficiário, utilizados em custeio rural, inclusive em empreendimento não financiado, no caso de perdas das receitas por causas previstas no 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</a:rPr>
              <a:t>c) promover a utilização de tecnologia, obedecida a orientação preconizada pela pesqui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89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 PROAGRO /  SEAF é uma política pública dinâmica e que precisa ser continuamente aperfeiçoada, por meio do desenvolvimento de estruturas operacionais eficientes e do investimento público, garantido sustentabilidade e evolução ao Program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26028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lquer política pública depende das instituições existentes em cada localidade. Neste caso, depende da rede bancária que opera o Crédito Rural - PRONAF e Outros e da rede de ATER envolvida no acompanhamento dos projetos produtivos, sendo importante, neste momento, o claro entendimento da operacionalização por parte das instituições envolvidas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3:05:50Z</dcterms:created>
  <dc:creator>usuario</dc:creator>
  <dc:description/>
  <dc:language>en-US</dc:language>
  <cp:lastModifiedBy>Banco do Brasil</cp:lastModifiedBy>
  <dcterms:modified xsi:type="dcterms:W3CDTF">2007-12-17T18:29:22Z</dcterms:modified>
  <cp:revision>13</cp:revision>
  <dc:subject/>
  <dc:title>Slide 1</dc:title>
</cp:coreProperties>
</file>