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6019920"/>
          <a:ext cx="538164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19920"/>
                    <a:ext cx="5381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"/>
          <p:cNvGraphicFramePr/>
          <p:nvPr/>
        </p:nvGraphicFramePr>
        <p:xfrm>
          <a:off x="3762360" y="6019920"/>
          <a:ext cx="538164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62360" y="6019920"/>
                    <a:ext cx="5381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6"/>
          <a:srcRect l="2500" t="0" r="0" b="0"/>
          <a:stretch/>
        </p:blipFill>
        <p:spPr>
          <a:xfrm>
            <a:off x="54000" y="6019920"/>
            <a:ext cx="8915400" cy="523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162840"/>
            <a:ext cx="4876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GURO DA AGRICULTURA FAMIL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28796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Verdana"/>
              </a:rPr>
              <a:t>ORIENTAÇÕES PARA COMPROVAÇÃO DE PERDAS</a:t>
            </a:r>
            <a:br>
              <a:rPr sz="5000"/>
            </a:br>
            <a:r>
              <a:rPr b="1" lang="pt-BR" sz="5000" spc="-1" strike="noStrike">
                <a:solidFill>
                  <a:srgbClr val="000000"/>
                </a:solidFill>
                <a:latin typeface="Verdana"/>
              </a:rPr>
              <a:t>2007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6095880"/>
          <a:ext cx="510552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5880"/>
                    <a:ext cx="5105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"/>
          <p:cNvGrpSpPr/>
          <p:nvPr/>
        </p:nvGrpSpPr>
        <p:grpSpPr>
          <a:xfrm>
            <a:off x="0" y="0"/>
            <a:ext cx="9143640" cy="2584440"/>
            <a:chOff x="0" y="0"/>
            <a:chExt cx="9143640" cy="258444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9143640" cy="2584440"/>
            </a:xfrm>
            <a:prstGeom prst="roundRect">
              <a:avLst>
                <a:gd name="adj" fmla="val 46"/>
              </a:avLst>
            </a:prstGeom>
            <a:solidFill>
              <a:srgbClr val="00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92600"/>
              <a:ext cx="91436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0" spc="-1" strike="noStrike">
                  <a:solidFill>
                    <a:srgbClr val="cccc00"/>
                  </a:solidFill>
                  <a:latin typeface="Arial"/>
                </a:rPr>
                <a:t>S E A F</a:t>
              </a:r>
              <a:endParaRPr b="0" lang="en-US" sz="1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500" spc="-1" strike="noStrike">
                  <a:solidFill>
                    <a:srgbClr val="cccc00"/>
                  </a:solidFill>
                  <a:latin typeface="Arial"/>
                </a:rPr>
                <a:t>SEGURO DA AGRICULTURA FAMILIA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1360" y="914400"/>
            <a:ext cx="88012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54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ta fiscal qu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manej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do acionar o Proag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rigatória apresentação de croquis da lavo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mite de 150 m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nific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tio Convencional: 70 a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% a cada enquadramento sem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2040"/>
                </a:solidFill>
                <a:latin typeface="Arial"/>
              </a:rPr>
              <a:t>ASPECTOS GERAI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1360" y="914400"/>
            <a:ext cx="88012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54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nific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tio direto: 100% de cober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tio Convencional: 70 a 100% de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0% a cada enquadramento sem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mitado a 36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 caso de cobertura, volta pra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2040"/>
                </a:solidFill>
                <a:latin typeface="Arial"/>
              </a:rPr>
              <a:t>ASPECTOS GERAI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1447920"/>
            <a:ext cx="83822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PROCEDIMENTOS PARA </a:t>
            </a:r>
            <a:br>
              <a:rPr sz="7200"/>
            </a:b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PERÍCI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752480"/>
            <a:ext cx="80773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agente deve encaminhar ao peri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strumento de Créd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 c/ Termo de Confirmação de Vis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çamento 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plicação de insu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oteiro de localização do imó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oqui da lavo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udos de acompanhamento (se hou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21932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NA SOLICITAÇÃO</a:t>
            </a: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                        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CR 16-4-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181480"/>
            <a:ext cx="79171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066680"/>
            <a:ext cx="80769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Quando há necessidade de medição de áreas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676520"/>
            <a:ext cx="8001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90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CR 16-4-8-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.. A área objeto de enquadramento for superior a 200 ha e ainda não ter sofrido med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CR 16-4-8-b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.. o agente deve solicitar ao técnico a medição da lavoura quando houver indício de redução de área... Quando a redução for superior a 20% da área financiada, o cliente paga a medi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1066680"/>
            <a:ext cx="80769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Quando há necessidade de medição de áreas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676520"/>
            <a:ext cx="800100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90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m indícios de que o MDA exigirá que todas as áreas periciadas sejam medidas, porem, até o momento, não há normativos sobre o 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066680"/>
            <a:ext cx="822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IDENTIFICAÇÃO ÁREAS E DANOS    </a:t>
            </a:r>
            <a:r>
              <a:rPr b="1" lang="pt-BR" sz="2800" spc="-1" strike="noStrike">
                <a:solidFill>
                  <a:srgbClr val="800000"/>
                </a:solidFill>
                <a:latin typeface="Arial"/>
              </a:rPr>
              <a:t>02.01.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00200"/>
            <a:ext cx="80010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3 fotos por visita – condições da lavoura 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efeitos de eventos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(MCR 16-4-15-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ão existe citação sobre a forma de       apresentação dessas fo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1600200"/>
            <a:ext cx="80010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erificar e Registr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tibilidade com o con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stência 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idados com o man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 pragas/doenças/ervas danin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ensivos/fertilizantes/sem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io Direto e cobertura n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ção de so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TECNOLOGIA UTILIZADA        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CR 16-4-17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600200"/>
            <a:ext cx="80010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erificar e Regist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Zoneamento Agríc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so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fund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cliv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atas de plant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lti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Se crioulas, cadastradas na SAF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TECNOLOGIA UTILIZADA        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CR 16-4-17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600200"/>
            <a:ext cx="80010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663300"/>
                </a:solidFill>
                <a:uFillTx/>
                <a:latin typeface="Arial"/>
                <a:ea typeface="Times New Roman"/>
              </a:rPr>
              <a:t>TRATAMENTO DE TRANS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 safra 2007-2008, são admissíveis  margens de </a:t>
            </a:r>
            <a:r>
              <a:rPr b="1" lang="pt-BR" sz="2800" spc="-1" strike="noStrike">
                <a:solidFill>
                  <a:srgbClr val="cc6600"/>
                </a:solidFill>
                <a:latin typeface="Arial"/>
                <a:ea typeface="Times New Roman"/>
              </a:rPr>
              <a:t>10%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fund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cliv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COMENDAÇÃO 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648320"/>
            <a:ext cx="8001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e é o terceiro ano em que a profundidade e a declividade são explicitadas no Zone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itos produtores ainda não tem meios para aferição precisa e é necessário um período de transição para reconversão de ativ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981080"/>
            <a:ext cx="8001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90000" tIns="154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Empresas de Assistênci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Coope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Profissionais Autôno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Mincho"/>
              </a:rPr>
              <a:t>Quadro Próprio do A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371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CR 16-4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181480"/>
            <a:ext cx="791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MS Mincho"/>
              </a:rPr>
              <a:t>Profissionais Habili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QUEM PODE REALIZAR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743200"/>
            <a:ext cx="80010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comprovantes de insu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mentes, fertilizantes, defensivo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r deve mantê-los em seu p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o falso/adulterad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é causa para indeferimento </a:t>
            </a:r>
            <a:r>
              <a:rPr b="1" lang="pt-BR" sz="25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5-5-f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ECNOLOGIA UTI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1477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COMENDAÇÃO 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1309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ECNOLOGIA UTI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819520"/>
            <a:ext cx="80010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AGRICULTURA DE BASE ECOLÓGIC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pt-BR" sz="3100" spc="-1" strike="noStrike">
                <a:solidFill>
                  <a:srgbClr val="006600"/>
                </a:solidFill>
                <a:latin typeface="Arial"/>
                <a:ea typeface="Times New Roman"/>
              </a:rPr>
              <a:t>Técnicas não convencionais </a:t>
            </a:r>
            <a:br>
              <a:rPr sz="3100"/>
            </a:br>
            <a:r>
              <a:rPr b="1" lang="pt-BR" sz="3100" spc="-1" strike="noStrike">
                <a:solidFill>
                  <a:srgbClr val="006600"/>
                </a:solidFill>
                <a:latin typeface="Arial"/>
                <a:ea typeface="Times New Roman"/>
              </a:rPr>
              <a:t>    não significam tecnologia inadequad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pt-BR" sz="3100" spc="-1" strike="noStrike">
                <a:solidFill>
                  <a:srgbClr val="006600"/>
                </a:solidFill>
                <a:latin typeface="Arial"/>
                <a:ea typeface="Times New Roman"/>
              </a:rPr>
              <a:t>Insumos podem ser produzidos no</a:t>
            </a:r>
            <a:br>
              <a:rPr sz="3100"/>
            </a:br>
            <a:r>
              <a:rPr b="1" lang="pt-BR" sz="3100" spc="-1" strike="noStrike">
                <a:solidFill>
                  <a:srgbClr val="006600"/>
                </a:solidFill>
                <a:latin typeface="Arial"/>
                <a:ea typeface="Times New Roman"/>
              </a:rPr>
              <a:t>    local e não terem nota fisca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1337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E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1676520"/>
            <a:ext cx="8001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uração final deve ser realizada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na época da colheita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4-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as causas das perdas, e 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quanto decorrem de eventos ampa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houver perda de qualidade do produto,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verificar relação com causas amparada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4-17-d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PURAÇÃO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PURAÇÃO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424240"/>
            <a:ext cx="80010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08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esprezar bordaduras da lavour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olher amostra representativa das diversas á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Tomar o peso dos grãos da amostr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fetuar, se necessário, conversão para a</a:t>
            </a:r>
            <a:br>
              <a:rPr sz="2500"/>
            </a:b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umidade de colheita (13% a 14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r a produtividade média por hecta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icar pela área a ser colhi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9051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COMENDAÇÃO TÉCNICA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1600200"/>
            <a:ext cx="80010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ão é permitido cálculo com base em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faixa remanescente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5-5-c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Área colhida antes da perícia final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Tomar a produção como a maior entre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a financiada e a efetivamente obtida e 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produto como de qualidade normal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5-15 e 16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PURAÇÃO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1752480"/>
            <a:ext cx="8001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nte se a receita estimada for menor que custo das etapas subseqüentes  </a:t>
            </a:r>
            <a:r>
              <a:rPr b="1" lang="pt-BR" sz="25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4-2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IBERAÇÃO DE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680" y="3048120"/>
            <a:ext cx="80010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nte o Banco do Brasil libera áreas financiadas, portanto o produtor deve aguardar a visita do funcionário do Banco, que realizará vistoria e emitirá laudo a respeito. </a:t>
            </a:r>
            <a:r>
              <a:rPr b="1" lang="pt-BR" sz="25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4-21 e 22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1600200"/>
            <a:ext cx="80010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erificar e quantificar prejuízos referente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entos Cobertos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5-2-a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uva excessiva, ventos fortes ou f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ca, geada, graniz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riação excessiva de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nças/pragas sem método de 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PERDAS AMPA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52574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Válido para todas as lavouras cobertas pelo Proag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1600200"/>
            <a:ext cx="80010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erificar e quantificar prejuízos referente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entos Não Cobertos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5-3-a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ento fora da vig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cê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io extemporâ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ro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lta de conservação/fertilização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ERDAS NÃO AMPA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600200"/>
            <a:ext cx="80010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entos Não Cobert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iciências nutr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lta de práticas adequadas de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controle de pragas e doenç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nças e pragas com métod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 combate difundi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cro da haste e nematóide de cist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em lavoura de soja  susceptí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ERDAS NÃO AMPA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752480"/>
            <a:ext cx="8001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erificar e quantificar prejuízos referente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lta de cautela/cuidados ou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tecnologia inadequada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5-3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voura consorciada não prevista n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instrumento de créd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voura conduzida fora das nor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ERDAS NÃO AMPA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676520"/>
            <a:ext cx="7917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54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ção técnica e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doneidade e ausência de restriçõe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cadastrais que interfiram no perici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gistro no Conselho Profis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vênio com o Agente Financ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sência de interesses ou vínculos qu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prejudiquem a isenção e independ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QUEM PODE REALIZAR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4440"/>
            <a:ext cx="3657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752480"/>
            <a:ext cx="8001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erificar e registrar a tempestividade da C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 intempestiva a COP que não permi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urar as causas e a extensão das per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os itens do orçamento analític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não realizados, total ou parcial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ferir a tecnologia utilizada na conduçã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do empreendi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P INTEMPESTIVA                     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5-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205740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82800" bIns="46800" anchor="t">
            <a:no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ós o início da colheita </a:t>
            </a:r>
            <a:br>
              <a:rPr sz="2800"/>
            </a:b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(em  evento anterior a colheit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is de 3 dias úteis após a ocorrência</a:t>
            </a:r>
            <a:br>
              <a:rPr sz="2800"/>
            </a:b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(em evento durante a colheita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ós a época prevista para a colheita</a:t>
            </a:r>
            <a:br>
              <a:rPr sz="2800"/>
            </a:b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(considerando data de plantio, ciclo da</a:t>
            </a:r>
            <a:br>
              <a:rPr sz="2500"/>
            </a:b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cultivar e efeitos do evento nas planta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ós alteração/derrubada parcial da lavo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ós término da vig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99072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P INTEMPES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523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ituações Específicas de Efetivação da C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71680" y="1752480"/>
            <a:ext cx="80010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82800" bIns="46800" anchor="t">
            <a:noAutofit/>
          </a:bodyPr>
          <a:p>
            <a:pPr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ção intempes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ão plantou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ão houve dano agrocli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das apenas por tecnologia inadequada ou evento não ampa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cumprimento de normas ou Z. Agríc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ção apurada &gt; 120% da produção espe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990720"/>
            <a:ext cx="8381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COP INDEVIDA (segurado paga custos períc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2362320"/>
            <a:ext cx="80010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Quando for o caso, informar ao segu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rodutor poderá desistir da COP antes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da decisão do a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a desistência ocorrer antes da perícia,   não há despesas para o pro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8600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DESISTÊNCIA DA COP               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5-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1752480"/>
            <a:ext cx="80010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6600"/>
                </a:solidFill>
                <a:latin typeface="Arial"/>
                <a:ea typeface="Times New Roman"/>
              </a:rPr>
              <a:t>QUEM ASSIN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 O técnico habilitad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que vistoriou a lavoura e efetuou os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procedimentos de perí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ão pode ser elaborado por um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técnico e assinado por outro, nem por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gerente ou chefe que não periciou 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lavo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dem assinar o técnico e seu super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14300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LAUDO DE COMPROVAÇÃO DE PER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106668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SISTÊNCIA DA C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828800"/>
            <a:ext cx="8001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82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Quando for o caso, informar ao segurad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 indevida sujeita o produtor a arcar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com o custo do laudo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  <a:ea typeface="Times New Roman"/>
              </a:rPr>
              <a:t>(MCR 16-7-12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lhor procedi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ão efetivar COP havendo irregular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 desistência, efetivar antes da perí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1676520"/>
            <a:ext cx="8001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82800" bIns="4680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verá ser colhida do produtor assinatur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em termo de confirmação de vistoria n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lavoura para elaboração de laudo de perí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4300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ONFIRMAÇÃO DE VISITA</a:t>
            </a: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3399"/>
                </a:solidFill>
                <a:latin typeface="Arial"/>
              </a:rPr>
              <a:t>(não há normativ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91120"/>
            <a:ext cx="8001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82800" bIns="46800" anchor="t">
            <a:noAutofit/>
          </a:bodyPr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perito firmará termo explicitand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responsabilidades pelo periciamento e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por informações registradas no lau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TERMO DE RESPONSABILIDADE </a:t>
            </a:r>
            <a:r>
              <a:rPr b="1" lang="pt-BR" sz="1400" spc="-1" strike="noStrike">
                <a:solidFill>
                  <a:srgbClr val="003399"/>
                </a:solidFill>
                <a:latin typeface="Arial"/>
              </a:rPr>
              <a:t>(não há normativ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2667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raz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182880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isita do perito – 3 dias ú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ga do relatório – 10 dias ú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gamento das custas – 5 dias úteis </a:t>
            </a:r>
            <a:r>
              <a:rPr b="1" lang="pt-BR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e e decisão – 15 dias ú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cursos à CER – 30 dias da ciência da deci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s: Interpelações suspendem os pr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PROCEDIMENTOS PARA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muneraçã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828800"/>
            <a:ext cx="8229600" cy="51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,06% a 0,50% do limite de risco do programa (150 m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% do orçamento (R$ 90,00 a R$ 750,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r relatório concluso de per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stos são recolhidos pelo 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ela de medição de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flipV="1">
            <a:off x="3124080" y="4495320"/>
            <a:ext cx="4745160" cy="3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87640" y="5267160"/>
            <a:ext cx="1440" cy="27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09480" y="806400"/>
            <a:ext cx="4348080" cy="641160"/>
            <a:chOff x="609480" y="806400"/>
            <a:chExt cx="4348080" cy="641160"/>
          </a:xfrm>
        </p:grpSpPr>
        <p:sp>
          <p:nvSpPr>
            <p:cNvPr id="205" name=""/>
            <p:cNvSpPr/>
            <p:nvPr/>
          </p:nvSpPr>
          <p:spPr>
            <a:xfrm>
              <a:off x="609480" y="806400"/>
              <a:ext cx="4348080" cy="609120"/>
            </a:xfrm>
            <a:prstGeom prst="roundRect">
              <a:avLst>
                <a:gd name="adj" fmla="val 292"/>
              </a:avLst>
            </a:prstGeom>
            <a:gradFill rotWithShape="0">
              <a:gsLst>
                <a:gs pos="0">
                  <a:srgbClr val="dbdb83"/>
                </a:gs>
                <a:gs pos="50000">
                  <a:srgbClr val="ffff99"/>
                </a:gs>
                <a:gs pos="100000">
                  <a:srgbClr val="dbdb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480" y="806400"/>
              <a:ext cx="4348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0" bIns="108000" anchor="t">
              <a:spAutoFit/>
            </a:bodyPr>
            <a:p>
              <a:pPr algn="ctr">
                <a:lnSpc>
                  <a:spcPct val="93000"/>
                </a:lnSpc>
                <a:spcBef>
                  <a:spcPts val="1562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Perda &gt; 30 %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480" y="1601640"/>
            <a:ext cx="4343040" cy="963360"/>
            <a:chOff x="609480" y="1601640"/>
            <a:chExt cx="4343040" cy="963360"/>
          </a:xfrm>
        </p:grpSpPr>
        <p:sp>
          <p:nvSpPr>
            <p:cNvPr id="208" name=""/>
            <p:cNvSpPr/>
            <p:nvPr/>
          </p:nvSpPr>
          <p:spPr>
            <a:xfrm>
              <a:off x="609480" y="1601640"/>
              <a:ext cx="4343040" cy="963360"/>
            </a:xfrm>
            <a:prstGeom prst="roundRect">
              <a:avLst>
                <a:gd name="adj" fmla="val 236"/>
              </a:avLst>
            </a:prstGeom>
            <a:gradFill rotWithShape="0">
              <a:gsLst>
                <a:gs pos="0">
                  <a:srgbClr val="dbdb83"/>
                </a:gs>
                <a:gs pos="50000">
                  <a:srgbClr val="ffff99"/>
                </a:gs>
                <a:gs pos="100000">
                  <a:srgbClr val="dbdb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480" y="1601640"/>
              <a:ext cx="43430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0" bIns="1080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Comunicação de Perda </a:t>
              </a:r>
              <a:r>
                <a:rPr b="0" lang="en-GB" sz="28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(ao Banco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09480" y="2736720"/>
            <a:ext cx="4343040" cy="996120"/>
            <a:chOff x="609480" y="2736720"/>
            <a:chExt cx="4343040" cy="996120"/>
          </a:xfrm>
        </p:grpSpPr>
        <p:sp>
          <p:nvSpPr>
            <p:cNvPr id="211" name=""/>
            <p:cNvSpPr/>
            <p:nvPr/>
          </p:nvSpPr>
          <p:spPr>
            <a:xfrm>
              <a:off x="609480" y="2736720"/>
              <a:ext cx="4343040" cy="942840"/>
            </a:xfrm>
            <a:prstGeom prst="roundRect">
              <a:avLst>
                <a:gd name="adj" fmla="val 236"/>
              </a:avLst>
            </a:prstGeom>
            <a:gradFill rotWithShape="0">
              <a:gsLst>
                <a:gs pos="0">
                  <a:srgbClr val="dbdb83"/>
                </a:gs>
                <a:gs pos="50000">
                  <a:srgbClr val="ffff99"/>
                </a:gs>
                <a:gs pos="100000">
                  <a:srgbClr val="dbdb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480" y="2736720"/>
              <a:ext cx="434304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0" bIns="1080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Comprovação Perdas (P</a:t>
              </a:r>
              <a:r>
                <a:rPr b="0" lang="en-GB" sz="30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erito</a:t>
              </a:r>
              <a:r>
                <a:rPr b="0" lang="en-GB" sz="32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454560" y="5638680"/>
            <a:ext cx="4876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305920" y="3733560"/>
            <a:ext cx="1260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1905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91320" y="787320"/>
            <a:ext cx="2747520" cy="2072160"/>
            <a:chOff x="5791320" y="787320"/>
            <a:chExt cx="2747520" cy="2072160"/>
          </a:xfrm>
        </p:grpSpPr>
        <p:sp>
          <p:nvSpPr>
            <p:cNvPr id="217" name=""/>
            <p:cNvSpPr/>
            <p:nvPr/>
          </p:nvSpPr>
          <p:spPr>
            <a:xfrm>
              <a:off x="5791320" y="787320"/>
              <a:ext cx="2747520" cy="2019600"/>
            </a:xfrm>
            <a:prstGeom prst="roundRect">
              <a:avLst>
                <a:gd name="adj" fmla="val 144"/>
              </a:avLst>
            </a:prstGeom>
            <a:gradFill rotWithShape="0">
              <a:gsLst>
                <a:gs pos="0">
                  <a:srgbClr val="88aca4"/>
                </a:gs>
                <a:gs pos="50000">
                  <a:srgbClr val="d6e2df"/>
                </a:gs>
                <a:gs pos="100000">
                  <a:srgbClr val="88aca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1320" y="787320"/>
              <a:ext cx="2747520" cy="20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0" bIns="108000" anchor="t">
              <a:spAutoFit/>
            </a:bodyPr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500" spc="-1" strike="noStrike">
                  <a:solidFill>
                    <a:srgbClr val="00005c"/>
                  </a:solidFill>
                  <a:latin typeface="Arial Black"/>
                  <a:ea typeface="Times New Roman"/>
                </a:rPr>
                <a:t>C E R</a:t>
              </a:r>
              <a:br>
                <a:rPr sz="3500"/>
              </a:br>
              <a:r>
                <a:rPr b="1" lang="en-GB" sz="32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Comissão Especial</a:t>
              </a:r>
              <a:br>
                <a:rPr sz="3200"/>
              </a:br>
              <a:r>
                <a:rPr b="1" lang="en-GB" sz="32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de Recurs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9480" y="3860640"/>
            <a:ext cx="4343040" cy="955440"/>
            <a:chOff x="609480" y="3860640"/>
            <a:chExt cx="4343040" cy="955440"/>
          </a:xfrm>
        </p:grpSpPr>
        <p:sp>
          <p:nvSpPr>
            <p:cNvPr id="220" name=""/>
            <p:cNvSpPr/>
            <p:nvPr/>
          </p:nvSpPr>
          <p:spPr>
            <a:xfrm>
              <a:off x="609480" y="3860640"/>
              <a:ext cx="4343040" cy="955440"/>
            </a:xfrm>
            <a:prstGeom prst="roundRect">
              <a:avLst>
                <a:gd name="adj" fmla="val 236"/>
              </a:avLst>
            </a:prstGeom>
            <a:gradFill rotWithShape="0">
              <a:gsLst>
                <a:gs pos="0">
                  <a:srgbClr val="dbdb83"/>
                </a:gs>
                <a:gs pos="50000">
                  <a:srgbClr val="ffff99"/>
                </a:gs>
                <a:gs pos="100000">
                  <a:srgbClr val="dbdb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860640"/>
              <a:ext cx="4343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0" bIns="1080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Julgamento</a:t>
              </a:r>
              <a:br>
                <a:rPr sz="3000"/>
              </a:br>
              <a:r>
                <a:rPr b="0" lang="en-GB" sz="30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(pelo Proagro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257800" y="4151160"/>
            <a:ext cx="2819160" cy="674640"/>
            <a:chOff x="5257800" y="4151160"/>
            <a:chExt cx="2819160" cy="674640"/>
          </a:xfrm>
        </p:grpSpPr>
        <p:sp>
          <p:nvSpPr>
            <p:cNvPr id="223" name=""/>
            <p:cNvSpPr/>
            <p:nvPr/>
          </p:nvSpPr>
          <p:spPr>
            <a:xfrm>
              <a:off x="5257800" y="4151160"/>
              <a:ext cx="2819160" cy="674640"/>
            </a:xfrm>
            <a:prstGeom prst="roundRect">
              <a:avLst>
                <a:gd name="adj" fmla="val 292"/>
              </a:avLst>
            </a:prstGeom>
            <a:gradFill rotWithShape="0">
              <a:gsLst>
                <a:gs pos="0">
                  <a:srgbClr val="dbdb83"/>
                </a:gs>
                <a:gs pos="50000">
                  <a:srgbClr val="ffff99"/>
                </a:gs>
                <a:gs pos="100000">
                  <a:srgbClr val="dbdb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7800" y="4151160"/>
              <a:ext cx="281916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0" bIns="108000" anchor="t">
              <a:spAutoFit/>
            </a:bodyPr>
            <a:p>
              <a:pPr algn="ctr">
                <a:lnSpc>
                  <a:spcPct val="93000"/>
                </a:lnSpc>
                <a:spcBef>
                  <a:spcPts val="1562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Indeferimen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09480" y="5003640"/>
            <a:ext cx="4343040" cy="992160"/>
            <a:chOff x="609480" y="5003640"/>
            <a:chExt cx="4343040" cy="992160"/>
          </a:xfrm>
        </p:grpSpPr>
        <p:sp>
          <p:nvSpPr>
            <p:cNvPr id="226" name=""/>
            <p:cNvSpPr/>
            <p:nvPr/>
          </p:nvSpPr>
          <p:spPr>
            <a:xfrm>
              <a:off x="609480" y="5003640"/>
              <a:ext cx="4343040" cy="992160"/>
            </a:xfrm>
            <a:prstGeom prst="roundRect">
              <a:avLst>
                <a:gd name="adj" fmla="val 218"/>
              </a:avLst>
            </a:prstGeom>
            <a:gradFill rotWithShape="0">
              <a:gsLst>
                <a:gs pos="0">
                  <a:srgbClr val="dbdb83"/>
                </a:gs>
                <a:gs pos="50000">
                  <a:srgbClr val="ffff99"/>
                </a:gs>
                <a:gs pos="100000">
                  <a:srgbClr val="dbdb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480" y="5003640"/>
              <a:ext cx="4343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0" bIns="1080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Indenização</a:t>
              </a:r>
              <a:br>
                <a:rPr sz="3000"/>
              </a:br>
              <a:r>
                <a:rPr b="0" lang="en-GB" sz="3000" spc="-1" strike="noStrike">
                  <a:solidFill>
                    <a:srgbClr val="00005c"/>
                  </a:solidFill>
                  <a:latin typeface="Arial"/>
                  <a:ea typeface="Times New Roman"/>
                </a:rPr>
                <a:t>(Financiamento+Renda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67280" y="3133800"/>
            <a:ext cx="2666880" cy="675720"/>
            <a:chOff x="5867280" y="3133800"/>
            <a:chExt cx="2666880" cy="675720"/>
          </a:xfrm>
        </p:grpSpPr>
        <p:sp>
          <p:nvSpPr>
            <p:cNvPr id="229" name=""/>
            <p:cNvSpPr/>
            <p:nvPr/>
          </p:nvSpPr>
          <p:spPr>
            <a:xfrm>
              <a:off x="5867280" y="3133800"/>
              <a:ext cx="2666880" cy="675720"/>
            </a:xfrm>
            <a:prstGeom prst="roundRect">
              <a:avLst>
                <a:gd name="adj" fmla="val 292"/>
              </a:avLst>
            </a:prstGeom>
            <a:gradFill rotWithShape="0">
              <a:gsLst>
                <a:gs pos="0">
                  <a:srgbClr val="dbdb83"/>
                </a:gs>
                <a:gs pos="50000">
                  <a:srgbClr val="ffff99"/>
                </a:gs>
                <a:gs pos="100000">
                  <a:srgbClr val="dbdb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133800"/>
              <a:ext cx="26668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0" bIns="108000" anchor="t">
              <a:spAutoFit/>
            </a:bodyPr>
            <a:p>
              <a:pPr algn="ctr">
                <a:lnSpc>
                  <a:spcPct val="93000"/>
                </a:lnSpc>
                <a:spcBef>
                  <a:spcPts val="1562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Discordâ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4648320"/>
            <a:ext cx="7696080" cy="1295280"/>
          </a:xfrm>
          <a:prstGeom prst="rect">
            <a:avLst/>
          </a:prstGeom>
          <a:solidFill>
            <a:srgbClr val="f3f3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663300"/>
                </a:solidFill>
                <a:latin typeface="Arial"/>
              </a:rPr>
              <a:t>MCR 16-4-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447920"/>
            <a:ext cx="791712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54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idade ou Técn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e do cadastro de impedi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nha participação no empre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nha processo apuração irregular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ercializa insumos/produto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feituras ou entidades trabalh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ou projeto,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Prestou assistência técnica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Fiscalizou o empre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42840"/>
            <a:ext cx="792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VEDAÇÕES EXPRESSAS             </a:t>
            </a:r>
            <a:r>
              <a:rPr b="1" lang="pt-BR" sz="2800" spc="-1" strike="noStrike">
                <a:solidFill>
                  <a:srgbClr val="663300"/>
                </a:solidFill>
                <a:latin typeface="Arial"/>
              </a:rPr>
              <a:t>MCR 16-4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QUEM PODE REALIZAR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2040"/>
                </a:solidFill>
                <a:latin typeface="Arial"/>
              </a:rPr>
              <a:t>Recursos à C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1752480"/>
            <a:ext cx="80010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82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ão encaminhar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m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m fundament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ue descumprem norm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s: CER não pode descumprir norm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1676520"/>
            <a:ext cx="7917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54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idade Privada ou Técnic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empenha atividades políticas ou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partidárias no municíp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nha envolvimento com situações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suspeitas de irregularidades em períci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144440"/>
            <a:ext cx="792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VEDAÇÕES – Recomendadas Pela 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QUEM PODE REALIZAR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676520"/>
            <a:ext cx="7917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54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idade Privada/Técn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hece a regulamentação aplicável 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assume o compromisso de obser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 identificada irregularidade será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suspenso  o  pagamento  da remuneração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dos respectivos serviços, até 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regularização  do  fato, sem  prejuízo d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instauração de process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144440"/>
            <a:ext cx="792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DECLARAÇÃO  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663300"/>
                </a:solidFill>
                <a:latin typeface="Times New Roman"/>
              </a:rPr>
              <a:t>MCR 16-4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QUEM PODE REALIZAR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676520"/>
            <a:ext cx="8153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54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iências Agrá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rso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lacionamento com produtor/com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écnicas de obtenção de in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144440"/>
            <a:ext cx="792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PERFIL DO PE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QUEM PODE REALIZAR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1676520"/>
            <a:ext cx="8153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54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ção superior completa em Ciências Agrárias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e registro no CREA em situação de regular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periência profissional superior a 3 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ticipação em pelo menos um curso para peritos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promovido pela coordenação do SE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tenção de certificação técnica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(quando o sistema estiver em operaçã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e crédito rural, SEAF e Z.Agríc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144440"/>
            <a:ext cx="7924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PERFIL DO PER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40"/>
                </a:solidFill>
                <a:latin typeface="Arial"/>
              </a:rPr>
              <a:t>QUEM PODE REALIZAR PERÍC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1360" y="914400"/>
            <a:ext cx="88012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54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 fotos digitais da lavoura sinistrada (02/01/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reas sinistradas – Medição: qdo solicitado pelo a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entos amparados: Cobertura para todas as lavo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das recorrentes (3 coberturas nos últimos 60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naf – Orçamento simplificado (01/07/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álise Química e Física d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 Operações acima de 8 mil,  a partir de 01/07/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naf – Apresentação de NF´s ao per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457200"/>
            <a:ext cx="739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2040"/>
                </a:solidFill>
                <a:latin typeface="Arial"/>
              </a:rPr>
              <a:t>ALTERAÇÕ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838080"/>
            <a:ext cx="791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4:14:41Z</dcterms:created>
  <dc:creator>IICA</dc:creator>
  <dc:description/>
  <dc:language>en-US</dc:language>
  <cp:lastModifiedBy>Banco do Brasil</cp:lastModifiedBy>
  <dcterms:modified xsi:type="dcterms:W3CDTF">2007-12-19T18:01:46Z</dcterms:modified>
  <cp:revision>51</cp:revision>
  <dc:subject/>
  <dc:title>Apresentação do PowerPoint</dc:title>
</cp:coreProperties>
</file>