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487080"/>
            <a:ext cx="7801200" cy="60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0" y="6095880"/>
          <a:ext cx="538164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5880"/>
                    <a:ext cx="5381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Object 7"/>
          <p:cNvGraphicFramePr/>
          <p:nvPr/>
        </p:nvGraphicFramePr>
        <p:xfrm>
          <a:off x="3762360" y="6095880"/>
          <a:ext cx="538164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62360" y="6095880"/>
                    <a:ext cx="5381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Picture 1" descr=""/>
          <p:cNvPicPr/>
          <p:nvPr/>
        </p:nvPicPr>
        <p:blipFill>
          <a:blip r:embed="rId6"/>
          <a:srcRect l="2500" t="0" r="0" b="0"/>
          <a:stretch/>
        </p:blipFill>
        <p:spPr>
          <a:xfrm>
            <a:off x="54000" y="6111720"/>
            <a:ext cx="8915400" cy="5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487080"/>
            <a:ext cx="780120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6"/>
          <p:cNvSpPr/>
          <p:nvPr/>
        </p:nvSpPr>
        <p:spPr>
          <a:xfrm>
            <a:off x="304920" y="6238800"/>
            <a:ext cx="48765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GURO DA AGRICULTURA FAMILIAR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2329560"/>
            <a:ext cx="9143640" cy="2918520"/>
            <a:chOff x="0" y="2329560"/>
            <a:chExt cx="9143640" cy="2918520"/>
          </a:xfrm>
        </p:grpSpPr>
        <p:sp>
          <p:nvSpPr>
            <p:cNvPr id="44" name="AutoShape 3"/>
            <p:cNvSpPr/>
            <p:nvPr/>
          </p:nvSpPr>
          <p:spPr>
            <a:xfrm>
              <a:off x="0" y="2707920"/>
              <a:ext cx="9143640" cy="216072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Text Box 4"/>
            <p:cNvSpPr/>
            <p:nvPr/>
          </p:nvSpPr>
          <p:spPr>
            <a:xfrm>
              <a:off x="0" y="2329560"/>
              <a:ext cx="9143640" cy="29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3366"/>
                  </a:solidFill>
                  <a:latin typeface="Verdana"/>
                  <a:ea typeface="Times New Roman"/>
                </a:rPr>
                <a:t>PERICIAMENTO DAS LAVOURAS DO SEAF</a:t>
              </a:r>
              <a:endParaRPr b="1" lang="en-US" sz="4800" spc="-1" strike="noStrike">
                <a:solidFill>
                  <a:srgbClr val="0066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66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1" lang="en-US" sz="55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845820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01600" indent="-201600">
              <a:lnSpc>
                <a:spcPct val="100000"/>
              </a:lnSpc>
              <a:spcBef>
                <a:spcPts val="2449"/>
              </a:spcBef>
              <a:buClr>
                <a:srgbClr val="3366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336600"/>
                </a:solidFill>
                <a:latin typeface="Arial"/>
              </a:rPr>
              <a:t>TECNOLOGIA OU MANEJO</a:t>
            </a:r>
            <a:br>
              <a:rPr sz="2800"/>
            </a:br>
            <a:r>
              <a:rPr b="1" lang="pt-BR" sz="2800" spc="-1" strike="noStrike">
                <a:solidFill>
                  <a:srgbClr val="336600"/>
                </a:solidFill>
                <a:latin typeface="Arial"/>
              </a:rPr>
              <a:t>    INADEQU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0">
              <a:lnSpc>
                <a:spcPct val="100000"/>
              </a:lnSpc>
              <a:spcBef>
                <a:spcPts val="24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spcBef>
                <a:spcPts val="2449"/>
              </a:spcBef>
              <a:buClr>
                <a:srgbClr val="3366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336600"/>
                </a:solidFill>
                <a:latin typeface="Arial"/>
              </a:rPr>
              <a:t>LAVOURA CONSORCIADA NÃO</a:t>
            </a:r>
            <a:br>
              <a:rPr sz="2800"/>
            </a:br>
            <a:r>
              <a:rPr b="1" lang="pt-BR" sz="2800" spc="-1" strike="noStrike">
                <a:solidFill>
                  <a:srgbClr val="336600"/>
                </a:solidFill>
                <a:latin typeface="Arial"/>
              </a:rPr>
              <a:t>    PREVISTA NO CON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0">
              <a:lnSpc>
                <a:spcPct val="100000"/>
              </a:lnSpc>
              <a:spcBef>
                <a:spcPts val="24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-201600">
              <a:lnSpc>
                <a:spcPct val="100000"/>
              </a:lnSpc>
              <a:spcBef>
                <a:spcPts val="2449"/>
              </a:spcBef>
              <a:buClr>
                <a:srgbClr val="3366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336600"/>
                </a:solidFill>
                <a:latin typeface="Arial"/>
              </a:rPr>
              <a:t>LAVOURA CONDUZIDA FORA DAS</a:t>
            </a:r>
            <a:br>
              <a:rPr sz="2800"/>
            </a:br>
            <a:r>
              <a:rPr b="1" lang="pt-BR" sz="2800" spc="-1" strike="noStrike">
                <a:solidFill>
                  <a:srgbClr val="336600"/>
                </a:solidFill>
                <a:latin typeface="Arial"/>
              </a:rPr>
              <a:t>   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5"/>
          <p:cNvGrpSpPr/>
          <p:nvPr/>
        </p:nvGrpSpPr>
        <p:grpSpPr>
          <a:xfrm>
            <a:off x="179280" y="1628640"/>
            <a:ext cx="8964360" cy="2935440"/>
            <a:chOff x="179280" y="1628640"/>
            <a:chExt cx="8964360" cy="2935440"/>
          </a:xfrm>
        </p:grpSpPr>
        <p:sp>
          <p:nvSpPr>
            <p:cNvPr id="128" name="AutoShape 6"/>
            <p:cNvSpPr/>
            <p:nvPr/>
          </p:nvSpPr>
          <p:spPr>
            <a:xfrm>
              <a:off x="179280" y="1628640"/>
              <a:ext cx="8964360" cy="293544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179280" y="1628640"/>
              <a:ext cx="8964360" cy="25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19040" indent="-314280" algn="ctr">
                <a:lnSpc>
                  <a:spcPct val="130000"/>
                </a:lnSpc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US" sz="4800" spc="-1" strike="noStrike">
                  <a:solidFill>
                    <a:srgbClr val="000080"/>
                  </a:solidFill>
                  <a:latin typeface="Arial"/>
                </a:rPr>
                <a:t>IRREGULARIDADES QUE DEVEM SER OBSERVADAS</a:t>
              </a:r>
              <a:endParaRPr b="1" lang="en-US" sz="48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90000"/>
                </a:lnSpc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endParaRPr b="1" lang="en-US" sz="4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8360" y="1052640"/>
            <a:ext cx="38163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Área plantad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Presença de erosão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Pedregosid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Área de emergêci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Plantio Direto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Indicativo de plantio Z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ultivar conforme Z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Tipo de solo Z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Stand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Estádio fenológico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076720" y="1052640"/>
            <a:ext cx="38386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Declivid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onservação do solo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Plantio indicado Z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ontrole de praga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ontrole de doença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Aplicação de insumo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Tecnologia adequad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Manejo adequado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OP devid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Liberação da áre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32" name="Group 2"/>
          <p:cNvGrpSpPr/>
          <p:nvPr/>
        </p:nvGrpSpPr>
        <p:grpSpPr>
          <a:xfrm>
            <a:off x="468360" y="217800"/>
            <a:ext cx="8135640" cy="521280"/>
            <a:chOff x="468360" y="217800"/>
            <a:chExt cx="8135640" cy="521280"/>
          </a:xfrm>
        </p:grpSpPr>
        <p:sp>
          <p:nvSpPr>
            <p:cNvPr id="133" name="AutoShape 3"/>
            <p:cNvSpPr/>
            <p:nvPr/>
          </p:nvSpPr>
          <p:spPr>
            <a:xfrm>
              <a:off x="468360" y="397080"/>
              <a:ext cx="8135640" cy="168120"/>
            </a:xfrm>
            <a:prstGeom prst="roundRect">
              <a:avLst>
                <a:gd name="adj" fmla="val 9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4" name="Text Box 4"/>
            <p:cNvSpPr/>
            <p:nvPr/>
          </p:nvSpPr>
          <p:spPr>
            <a:xfrm>
              <a:off x="468360" y="217800"/>
              <a:ext cx="813564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80"/>
                  </a:solidFill>
                  <a:uFillTx/>
                  <a:latin typeface="Verdana"/>
                  <a:ea typeface="Times New Roman"/>
                </a:rPr>
                <a:t>TIPOS DE IRREGULARIDADES</a:t>
              </a:r>
              <a:endParaRPr b="1" lang="en-US" sz="36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990720" y="631800"/>
            <a:ext cx="7238880" cy="579240"/>
            <a:chOff x="990720" y="631800"/>
            <a:chExt cx="7238880" cy="579240"/>
          </a:xfrm>
        </p:grpSpPr>
        <p:sp>
          <p:nvSpPr>
            <p:cNvPr id="47" name="AutoShape 3"/>
            <p:cNvSpPr/>
            <p:nvPr/>
          </p:nvSpPr>
          <p:spPr>
            <a:xfrm>
              <a:off x="990720" y="839880"/>
              <a:ext cx="7238880" cy="168120"/>
            </a:xfrm>
            <a:prstGeom prst="roundRect">
              <a:avLst>
                <a:gd name="adj" fmla="val 9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Text Box 4"/>
            <p:cNvSpPr/>
            <p:nvPr/>
          </p:nvSpPr>
          <p:spPr>
            <a:xfrm>
              <a:off x="990720" y="631800"/>
              <a:ext cx="7238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80"/>
                  </a:solidFill>
                  <a:uFillTx/>
                  <a:latin typeface="Verdana"/>
                  <a:ea typeface="Times New Roman"/>
                </a:rPr>
                <a:t>RETROSPECTO</a:t>
              </a:r>
              <a:endParaRPr b="1" lang="en-US" sz="40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49" name="Group 5"/>
          <p:cNvGrpSpPr/>
          <p:nvPr/>
        </p:nvGrpSpPr>
        <p:grpSpPr>
          <a:xfrm>
            <a:off x="914400" y="1905120"/>
            <a:ext cx="7238880" cy="3174480"/>
            <a:chOff x="914400" y="1905120"/>
            <a:chExt cx="7238880" cy="3174480"/>
          </a:xfrm>
        </p:grpSpPr>
        <p:sp>
          <p:nvSpPr>
            <p:cNvPr id="50" name="AutoShape 6"/>
            <p:cNvSpPr/>
            <p:nvPr/>
          </p:nvSpPr>
          <p:spPr>
            <a:xfrm>
              <a:off x="914400" y="1905120"/>
              <a:ext cx="7238880" cy="317448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914400" y="1905120"/>
              <a:ext cx="72388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19040" indent="-314280">
                <a:lnSpc>
                  <a:spcPct val="90000"/>
                </a:lnSpc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2" name="Group 22"/>
          <p:cNvGrpSpPr/>
          <p:nvPr/>
        </p:nvGrpSpPr>
        <p:grpSpPr>
          <a:xfrm>
            <a:off x="6372360" y="4941720"/>
            <a:ext cx="2520720" cy="804600"/>
            <a:chOff x="6372360" y="4941720"/>
            <a:chExt cx="2520720" cy="804600"/>
          </a:xfrm>
        </p:grpSpPr>
        <p:sp>
          <p:nvSpPr>
            <p:cNvPr id="53" name="AutoShape 23"/>
            <p:cNvSpPr/>
            <p:nvPr/>
          </p:nvSpPr>
          <p:spPr>
            <a:xfrm>
              <a:off x="6372360" y="4941720"/>
              <a:ext cx="2520720" cy="80460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Text Box 24"/>
            <p:cNvSpPr/>
            <p:nvPr/>
          </p:nvSpPr>
          <p:spPr>
            <a:xfrm>
              <a:off x="6372360" y="5116320"/>
              <a:ext cx="25207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 mil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5" name="Group 25"/>
          <p:cNvGrpSpPr/>
          <p:nvPr/>
        </p:nvGrpSpPr>
        <p:grpSpPr>
          <a:xfrm>
            <a:off x="3492360" y="4941720"/>
            <a:ext cx="2521080" cy="804600"/>
            <a:chOff x="3492360" y="4941720"/>
            <a:chExt cx="2521080" cy="804600"/>
          </a:xfrm>
        </p:grpSpPr>
        <p:sp>
          <p:nvSpPr>
            <p:cNvPr id="56" name="AutoShape 26"/>
            <p:cNvSpPr/>
            <p:nvPr/>
          </p:nvSpPr>
          <p:spPr>
            <a:xfrm>
              <a:off x="3492360" y="4941720"/>
              <a:ext cx="2521080" cy="80460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Text Box 27"/>
            <p:cNvSpPr/>
            <p:nvPr/>
          </p:nvSpPr>
          <p:spPr>
            <a:xfrm>
              <a:off x="3492360" y="5116320"/>
              <a:ext cx="25210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02 mil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8" name="Group 28"/>
          <p:cNvGrpSpPr/>
          <p:nvPr/>
        </p:nvGrpSpPr>
        <p:grpSpPr>
          <a:xfrm>
            <a:off x="468360" y="4941720"/>
            <a:ext cx="2521080" cy="804600"/>
            <a:chOff x="468360" y="4941720"/>
            <a:chExt cx="2521080" cy="804600"/>
          </a:xfrm>
        </p:grpSpPr>
        <p:sp>
          <p:nvSpPr>
            <p:cNvPr id="59" name="AutoShape 29"/>
            <p:cNvSpPr/>
            <p:nvPr/>
          </p:nvSpPr>
          <p:spPr>
            <a:xfrm>
              <a:off x="468360" y="4941720"/>
              <a:ext cx="2521080" cy="80460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0" name="Text Box 30"/>
            <p:cNvSpPr/>
            <p:nvPr/>
          </p:nvSpPr>
          <p:spPr>
            <a:xfrm>
              <a:off x="468360" y="5116320"/>
              <a:ext cx="25210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6-07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61" name="Group 31"/>
          <p:cNvGrpSpPr/>
          <p:nvPr/>
        </p:nvGrpSpPr>
        <p:grpSpPr>
          <a:xfrm>
            <a:off x="468360" y="3933720"/>
            <a:ext cx="2521080" cy="804600"/>
            <a:chOff x="468360" y="3933720"/>
            <a:chExt cx="2521080" cy="804600"/>
          </a:xfrm>
        </p:grpSpPr>
        <p:sp>
          <p:nvSpPr>
            <p:cNvPr id="62" name="AutoShape 32"/>
            <p:cNvSpPr/>
            <p:nvPr/>
          </p:nvSpPr>
          <p:spPr>
            <a:xfrm>
              <a:off x="468360" y="3933720"/>
              <a:ext cx="2521080" cy="80460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Text Box 33"/>
            <p:cNvSpPr/>
            <p:nvPr/>
          </p:nvSpPr>
          <p:spPr>
            <a:xfrm>
              <a:off x="468360" y="4108320"/>
              <a:ext cx="25210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5-06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64" name="Group 34"/>
          <p:cNvGrpSpPr/>
          <p:nvPr/>
        </p:nvGrpSpPr>
        <p:grpSpPr>
          <a:xfrm>
            <a:off x="468360" y="2924280"/>
            <a:ext cx="2521080" cy="804240"/>
            <a:chOff x="468360" y="2924280"/>
            <a:chExt cx="2521080" cy="804240"/>
          </a:xfrm>
        </p:grpSpPr>
        <p:sp>
          <p:nvSpPr>
            <p:cNvPr id="65" name="AutoShape 35"/>
            <p:cNvSpPr/>
            <p:nvPr/>
          </p:nvSpPr>
          <p:spPr>
            <a:xfrm>
              <a:off x="468360" y="2924280"/>
              <a:ext cx="2521080" cy="80424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6" name="Text Box 36"/>
            <p:cNvSpPr/>
            <p:nvPr/>
          </p:nvSpPr>
          <p:spPr>
            <a:xfrm>
              <a:off x="468360" y="3098160"/>
              <a:ext cx="25210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4-05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67" name="Group 37"/>
          <p:cNvGrpSpPr/>
          <p:nvPr/>
        </p:nvGrpSpPr>
        <p:grpSpPr>
          <a:xfrm>
            <a:off x="395280" y="1557360"/>
            <a:ext cx="2521080" cy="804600"/>
            <a:chOff x="395280" y="1557360"/>
            <a:chExt cx="2521080" cy="804600"/>
          </a:xfrm>
        </p:grpSpPr>
        <p:sp>
          <p:nvSpPr>
            <p:cNvPr id="68" name="AutoShape 38"/>
            <p:cNvSpPr/>
            <p:nvPr/>
          </p:nvSpPr>
          <p:spPr>
            <a:xfrm>
              <a:off x="395280" y="1557360"/>
              <a:ext cx="2521080" cy="80460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9" name="Text Box 39"/>
            <p:cNvSpPr/>
            <p:nvPr/>
          </p:nvSpPr>
          <p:spPr>
            <a:xfrm>
              <a:off x="395280" y="1731960"/>
              <a:ext cx="25210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AFRA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70" name="Group 40"/>
          <p:cNvGrpSpPr/>
          <p:nvPr/>
        </p:nvGrpSpPr>
        <p:grpSpPr>
          <a:xfrm>
            <a:off x="3490920" y="2924280"/>
            <a:ext cx="2521080" cy="804240"/>
            <a:chOff x="3490920" y="2924280"/>
            <a:chExt cx="2521080" cy="804240"/>
          </a:xfrm>
        </p:grpSpPr>
        <p:sp>
          <p:nvSpPr>
            <p:cNvPr id="71" name="AutoShape 41"/>
            <p:cNvSpPr/>
            <p:nvPr/>
          </p:nvSpPr>
          <p:spPr>
            <a:xfrm>
              <a:off x="3490920" y="2924280"/>
              <a:ext cx="2521080" cy="80424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2" name="Text Box 42"/>
            <p:cNvSpPr/>
            <p:nvPr/>
          </p:nvSpPr>
          <p:spPr>
            <a:xfrm>
              <a:off x="3490920" y="3098160"/>
              <a:ext cx="25210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0 mil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73" name="Group 43"/>
          <p:cNvGrpSpPr/>
          <p:nvPr/>
        </p:nvGrpSpPr>
        <p:grpSpPr>
          <a:xfrm>
            <a:off x="6300720" y="2911320"/>
            <a:ext cx="2521080" cy="804600"/>
            <a:chOff x="6300720" y="2911320"/>
            <a:chExt cx="2521080" cy="804600"/>
          </a:xfrm>
        </p:grpSpPr>
        <p:sp>
          <p:nvSpPr>
            <p:cNvPr id="74" name="AutoShape 44"/>
            <p:cNvSpPr/>
            <p:nvPr/>
          </p:nvSpPr>
          <p:spPr>
            <a:xfrm>
              <a:off x="6300720" y="2911320"/>
              <a:ext cx="2521080" cy="80460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5" name="Text Box 45"/>
            <p:cNvSpPr/>
            <p:nvPr/>
          </p:nvSpPr>
          <p:spPr>
            <a:xfrm>
              <a:off x="6300720" y="3085920"/>
              <a:ext cx="25210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43 mil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76" name="Group 46"/>
          <p:cNvGrpSpPr/>
          <p:nvPr/>
        </p:nvGrpSpPr>
        <p:grpSpPr>
          <a:xfrm>
            <a:off x="6372360" y="3919680"/>
            <a:ext cx="2520720" cy="804240"/>
            <a:chOff x="6372360" y="3919680"/>
            <a:chExt cx="2520720" cy="804240"/>
          </a:xfrm>
        </p:grpSpPr>
        <p:sp>
          <p:nvSpPr>
            <p:cNvPr id="77" name="AutoShape 47"/>
            <p:cNvSpPr/>
            <p:nvPr/>
          </p:nvSpPr>
          <p:spPr>
            <a:xfrm>
              <a:off x="6372360" y="3919680"/>
              <a:ext cx="2520720" cy="80424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8" name="Text Box 48"/>
            <p:cNvSpPr/>
            <p:nvPr/>
          </p:nvSpPr>
          <p:spPr>
            <a:xfrm>
              <a:off x="6372360" y="4093560"/>
              <a:ext cx="25207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42 mil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79" name="Group 49"/>
          <p:cNvGrpSpPr/>
          <p:nvPr/>
        </p:nvGrpSpPr>
        <p:grpSpPr>
          <a:xfrm>
            <a:off x="3492360" y="3919680"/>
            <a:ext cx="2521080" cy="804240"/>
            <a:chOff x="3492360" y="3919680"/>
            <a:chExt cx="2521080" cy="804240"/>
          </a:xfrm>
        </p:grpSpPr>
        <p:sp>
          <p:nvSpPr>
            <p:cNvPr id="80" name="AutoShape 50"/>
            <p:cNvSpPr/>
            <p:nvPr/>
          </p:nvSpPr>
          <p:spPr>
            <a:xfrm>
              <a:off x="3492360" y="3919680"/>
              <a:ext cx="2521080" cy="80424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1" name="Text Box 51"/>
            <p:cNvSpPr/>
            <p:nvPr/>
          </p:nvSpPr>
          <p:spPr>
            <a:xfrm>
              <a:off x="3492360" y="4093560"/>
              <a:ext cx="25210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80 mil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82" name="Group 52"/>
          <p:cNvGrpSpPr/>
          <p:nvPr/>
        </p:nvGrpSpPr>
        <p:grpSpPr>
          <a:xfrm>
            <a:off x="3490920" y="1557360"/>
            <a:ext cx="2521080" cy="804600"/>
            <a:chOff x="3490920" y="1557360"/>
            <a:chExt cx="2521080" cy="804600"/>
          </a:xfrm>
        </p:grpSpPr>
        <p:sp>
          <p:nvSpPr>
            <p:cNvPr id="83" name="AutoShape 53"/>
            <p:cNvSpPr/>
            <p:nvPr/>
          </p:nvSpPr>
          <p:spPr>
            <a:xfrm>
              <a:off x="3490920" y="1557360"/>
              <a:ext cx="2521080" cy="80460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4" name="Text Box 54"/>
            <p:cNvSpPr/>
            <p:nvPr/>
          </p:nvSpPr>
          <p:spPr>
            <a:xfrm>
              <a:off x="3490920" y="1731960"/>
              <a:ext cx="25210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 Contratos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85" name="Group 55"/>
          <p:cNvGrpSpPr/>
          <p:nvPr/>
        </p:nvGrpSpPr>
        <p:grpSpPr>
          <a:xfrm>
            <a:off x="6300720" y="1544760"/>
            <a:ext cx="2521080" cy="804240"/>
            <a:chOff x="6300720" y="1544760"/>
            <a:chExt cx="2521080" cy="804240"/>
          </a:xfrm>
        </p:grpSpPr>
        <p:sp>
          <p:nvSpPr>
            <p:cNvPr id="86" name="AutoShape 56"/>
            <p:cNvSpPr/>
            <p:nvPr/>
          </p:nvSpPr>
          <p:spPr>
            <a:xfrm>
              <a:off x="6300720" y="1544760"/>
              <a:ext cx="2521080" cy="804240"/>
            </a:xfrm>
            <a:prstGeom prst="roundRect">
              <a:avLst>
                <a:gd name="adj" fmla="val 25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7" name="Text Box 57"/>
            <p:cNvSpPr/>
            <p:nvPr/>
          </p:nvSpPr>
          <p:spPr>
            <a:xfrm>
              <a:off x="6300720" y="1718640"/>
              <a:ext cx="252108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 COP´s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990720" y="333360"/>
            <a:ext cx="7238880" cy="579240"/>
            <a:chOff x="990720" y="333360"/>
            <a:chExt cx="7238880" cy="579240"/>
          </a:xfrm>
        </p:grpSpPr>
        <p:sp>
          <p:nvSpPr>
            <p:cNvPr id="89" name="AutoShape 3"/>
            <p:cNvSpPr/>
            <p:nvPr/>
          </p:nvSpPr>
          <p:spPr>
            <a:xfrm>
              <a:off x="990720" y="541440"/>
              <a:ext cx="7238880" cy="168120"/>
            </a:xfrm>
            <a:prstGeom prst="roundRect">
              <a:avLst>
                <a:gd name="adj" fmla="val 9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0" name="Text Box 4"/>
            <p:cNvSpPr/>
            <p:nvPr/>
          </p:nvSpPr>
          <p:spPr>
            <a:xfrm>
              <a:off x="990720" y="333360"/>
              <a:ext cx="7238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80"/>
                  </a:solidFill>
                  <a:uFillTx/>
                  <a:latin typeface="Verdana"/>
                  <a:ea typeface="Times New Roman"/>
                </a:rPr>
                <a:t>PROCESSO ATUAL</a:t>
              </a:r>
              <a:endParaRPr b="1" lang="en-US" sz="40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826920" y="1467000"/>
            <a:ext cx="7239240" cy="4552560"/>
            <a:chOff x="826920" y="1467000"/>
            <a:chExt cx="7239240" cy="4552560"/>
          </a:xfrm>
        </p:grpSpPr>
        <p:sp>
          <p:nvSpPr>
            <p:cNvPr id="92" name="AutoShape 10"/>
            <p:cNvSpPr/>
            <p:nvPr/>
          </p:nvSpPr>
          <p:spPr>
            <a:xfrm>
              <a:off x="826920" y="1467000"/>
              <a:ext cx="7239240" cy="317556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826920" y="1467000"/>
              <a:ext cx="7239240" cy="45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19040" indent="-314280">
                <a:lnSpc>
                  <a:spcPct val="90000"/>
                </a:lnSpc>
                <a:buClr>
                  <a:srgbClr val="006600"/>
                </a:buClr>
                <a:buSzPct val="80000"/>
                <a:buFont typeface="Wingdings" charset="2"/>
                <a:buChar char=""/>
                <a:tabLst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GB" sz="36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 </a:t>
              </a:r>
              <a:r>
                <a:rPr b="1" lang="en-GB" sz="32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CADASTRO DE PERITOS</a:t>
              </a:r>
              <a:r>
                <a:rPr b="1" lang="en-GB" sz="36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 </a:t>
              </a:r>
              <a:br>
                <a:rPr sz="3600"/>
              </a:br>
              <a:r>
                <a:rPr b="1" lang="en-GB" sz="3600" spc="-1" strike="noStrike">
                  <a:solidFill>
                    <a:srgbClr val="a50021"/>
                  </a:solidFill>
                  <a:latin typeface="Arial"/>
                  <a:ea typeface="Times New Roman"/>
                </a:rPr>
                <a:t> </a:t>
              </a:r>
              <a:r>
                <a:rPr b="1" lang="en-GB" sz="3600" spc="-1" strike="noStrike">
                  <a:solidFill>
                    <a:srgbClr val="808000"/>
                  </a:solidFill>
                  <a:latin typeface="Arial"/>
                  <a:ea typeface="Times New Roman"/>
                </a:rPr>
                <a:t>- </a:t>
              </a:r>
              <a:r>
                <a:rPr b="1" lang="en-GB" sz="3200" spc="-1" strike="noStrike">
                  <a:solidFill>
                    <a:srgbClr val="808000"/>
                  </a:solidFill>
                  <a:latin typeface="Arial"/>
                  <a:ea typeface="Times New Roman"/>
                </a:rPr>
                <a:t>Agente financeiro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100000"/>
                </a:lnSpc>
                <a:spcBef>
                  <a:spcPts val="1199"/>
                </a:spcBef>
                <a:buClr>
                  <a:srgbClr val="006600"/>
                </a:buClr>
                <a:buSzPct val="80000"/>
                <a:buFont typeface="Wingdings" charset="2"/>
                <a:buChar char=""/>
                <a:tabLst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GB" sz="36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 </a:t>
              </a:r>
              <a:r>
                <a:rPr b="1" lang="en-GB" sz="32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COMUNICAÇÃO DE PERDAS</a:t>
              </a:r>
              <a:r>
                <a:rPr b="1" lang="en-GB" sz="36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 </a:t>
              </a:r>
              <a:br>
                <a:rPr sz="3600"/>
              </a:br>
              <a:r>
                <a:rPr b="1" lang="en-GB" sz="3600" spc="-1" strike="noStrike">
                  <a:solidFill>
                    <a:srgbClr val="a50021"/>
                  </a:solidFill>
                  <a:latin typeface="Arial"/>
                  <a:ea typeface="Times New Roman"/>
                </a:rPr>
                <a:t> </a:t>
              </a:r>
              <a:r>
                <a:rPr b="1" lang="en-GB" sz="3600" spc="-1" strike="noStrike">
                  <a:solidFill>
                    <a:srgbClr val="808000"/>
                  </a:solidFill>
                  <a:latin typeface="Arial"/>
                  <a:ea typeface="Times New Roman"/>
                </a:rPr>
                <a:t>- </a:t>
              </a:r>
              <a:r>
                <a:rPr b="1" lang="en-GB" sz="3200" spc="-1" strike="noStrike">
                  <a:solidFill>
                    <a:srgbClr val="808000"/>
                  </a:solidFill>
                  <a:latin typeface="Arial"/>
                  <a:ea typeface="Times New Roman"/>
                </a:rPr>
                <a:t>Agricultor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100000"/>
                </a:lnSpc>
                <a:spcBef>
                  <a:spcPts val="1199"/>
                </a:spcBef>
                <a:buClr>
                  <a:srgbClr val="006600"/>
                </a:buClr>
                <a:buSzPct val="80000"/>
                <a:buFont typeface="Wingdings" charset="2"/>
                <a:buChar char=""/>
                <a:tabLst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GB" sz="36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 </a:t>
              </a:r>
              <a:r>
                <a:rPr b="1" lang="en-GB" sz="32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PERÍCIA</a:t>
              </a:r>
              <a:r>
                <a:rPr b="1" lang="en-GB" sz="32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 </a:t>
              </a:r>
              <a:br>
                <a:rPr sz="3200"/>
              </a:br>
              <a:r>
                <a:rPr b="1" lang="en-GB" sz="3200" spc="-1" strike="noStrike">
                  <a:solidFill>
                    <a:srgbClr val="a50021"/>
                  </a:solidFill>
                  <a:latin typeface="Arial"/>
                  <a:ea typeface="Times New Roman"/>
                </a:rPr>
                <a:t> </a:t>
              </a:r>
              <a:r>
                <a:rPr b="1" lang="en-GB" sz="3200" spc="-1" strike="noStrike">
                  <a:solidFill>
                    <a:srgbClr val="808000"/>
                  </a:solidFill>
                  <a:latin typeface="Arial"/>
                  <a:ea typeface="Times New Roman"/>
                </a:rPr>
                <a:t>- Técnico ATER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100000"/>
                </a:lnSpc>
                <a:spcBef>
                  <a:spcPts val="1199"/>
                </a:spcBef>
                <a:buClr>
                  <a:srgbClr val="006600"/>
                </a:buClr>
                <a:buSzPct val="80000"/>
                <a:buFont typeface="Wingdings" charset="2"/>
                <a:buChar char=""/>
                <a:tabLst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GB" sz="32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006600"/>
                  </a:solidFill>
                  <a:latin typeface="Arial"/>
                </a:rPr>
                <a:t>SUPERVISÃO</a:t>
              </a:r>
              <a:br>
                <a:rPr sz="3200"/>
              </a:br>
              <a:r>
                <a:rPr b="1" lang="en-GB" sz="32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808000"/>
                  </a:solidFill>
                  <a:latin typeface="Arial"/>
                </a:rPr>
                <a:t>- Técnico MDA</a:t>
              </a:r>
              <a:endParaRPr b="1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4" name="Rectangle 14"/>
          <p:cNvSpPr/>
          <p:nvPr/>
        </p:nvSpPr>
        <p:spPr>
          <a:xfrm>
            <a:off x="1258920" y="5013360"/>
            <a:ext cx="3025800" cy="100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468360" y="631800"/>
            <a:ext cx="8135640" cy="579240"/>
            <a:chOff x="468360" y="631800"/>
            <a:chExt cx="8135640" cy="579240"/>
          </a:xfrm>
        </p:grpSpPr>
        <p:sp>
          <p:nvSpPr>
            <p:cNvPr id="96" name="AutoShape 3"/>
            <p:cNvSpPr/>
            <p:nvPr/>
          </p:nvSpPr>
          <p:spPr>
            <a:xfrm>
              <a:off x="468360" y="839880"/>
              <a:ext cx="8135640" cy="168120"/>
            </a:xfrm>
            <a:prstGeom prst="roundRect">
              <a:avLst>
                <a:gd name="adj" fmla="val 9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97" name="Text Box 4"/>
            <p:cNvSpPr/>
            <p:nvPr/>
          </p:nvSpPr>
          <p:spPr>
            <a:xfrm>
              <a:off x="468360" y="631800"/>
              <a:ext cx="8135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80"/>
                  </a:solidFill>
                  <a:uFillTx/>
                  <a:latin typeface="Verdana"/>
                  <a:ea typeface="Times New Roman"/>
                </a:rPr>
                <a:t>SUPERVISÃO DAS PERÍCIAS</a:t>
              </a:r>
              <a:endParaRPr b="1" lang="en-US" sz="40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457200" y="1628640"/>
            <a:ext cx="8001000" cy="3577680"/>
            <a:chOff x="457200" y="1628640"/>
            <a:chExt cx="8001000" cy="3577680"/>
          </a:xfrm>
        </p:grpSpPr>
        <p:sp>
          <p:nvSpPr>
            <p:cNvPr id="99" name="AutoShape 6"/>
            <p:cNvSpPr/>
            <p:nvPr/>
          </p:nvSpPr>
          <p:spPr>
            <a:xfrm>
              <a:off x="457200" y="1628640"/>
              <a:ext cx="8001000" cy="315900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457200" y="1628640"/>
              <a:ext cx="8001000" cy="35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19040" indent="-314280">
                <a:lnSpc>
                  <a:spcPct val="105000"/>
                </a:lnSpc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GB" sz="3400" spc="-1" strike="noStrike">
                  <a:solidFill>
                    <a:srgbClr val="000000"/>
                  </a:solidFill>
                  <a:latin typeface="Arial"/>
                </a:rPr>
                <a:t>OBJETIVO</a:t>
              </a:r>
              <a:endParaRPr b="1" lang="en-US" sz="34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120000"/>
                </a:lnSpc>
                <a:spcBef>
                  <a:spcPts val="638"/>
                </a:spcBef>
                <a:buClr>
                  <a:srgbClr val="006600"/>
                </a:buClr>
                <a:buSzPct val="80000"/>
                <a:buFont typeface="Wingdings" charset="2"/>
                <a:buChar char=""/>
                <a:tabLst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GB" sz="3400" spc="-1" strike="noStrike">
                  <a:solidFill>
                    <a:srgbClr val="006600"/>
                  </a:solidFill>
                  <a:latin typeface="Arial"/>
                </a:rPr>
                <a:t>Identificar, analisar e quantificar os laudos que não condizem com a realidade das lavouras sinistradas</a:t>
              </a:r>
              <a:endParaRPr b="1" lang="en-US" sz="34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105000"/>
                </a:lnSpc>
                <a:spcBef>
                  <a:spcPts val="638"/>
                </a:spcBef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GB" sz="3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1" lang="en-US" sz="34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90000"/>
                </a:lnSpc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endParaRPr b="1" lang="en-US" sz="3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68360" y="1963800"/>
            <a:ext cx="381636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Pitang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andido Abreu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Boa Ventura São Roqu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Sta Maria do Oest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Turvo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andoí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ruz Machado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Manguerinh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076720" y="1981080"/>
            <a:ext cx="383868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oronel Vivid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Itapejara do Oest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Pato Branco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levelândia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Âmper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Casca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 Narrow"/>
              </a:rPr>
              <a:t>Três Barras do Paraná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26920" y="1141560"/>
            <a:ext cx="7345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3720" indent="-318960" algn="ctr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cípios Amostrados - P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04" name="Group 2"/>
          <p:cNvGrpSpPr/>
          <p:nvPr/>
        </p:nvGrpSpPr>
        <p:grpSpPr>
          <a:xfrm>
            <a:off x="468360" y="189000"/>
            <a:ext cx="8135640" cy="579240"/>
            <a:chOff x="468360" y="189000"/>
            <a:chExt cx="8135640" cy="579240"/>
          </a:xfrm>
        </p:grpSpPr>
        <p:sp>
          <p:nvSpPr>
            <p:cNvPr id="105" name="AutoShape 3"/>
            <p:cNvSpPr/>
            <p:nvPr/>
          </p:nvSpPr>
          <p:spPr>
            <a:xfrm>
              <a:off x="468360" y="397080"/>
              <a:ext cx="8135640" cy="168120"/>
            </a:xfrm>
            <a:prstGeom prst="roundRect">
              <a:avLst>
                <a:gd name="adj" fmla="val 9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06" name="Text Box 4"/>
            <p:cNvSpPr/>
            <p:nvPr/>
          </p:nvSpPr>
          <p:spPr>
            <a:xfrm>
              <a:off x="468360" y="189000"/>
              <a:ext cx="8135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80"/>
                  </a:solidFill>
                  <a:uFillTx/>
                  <a:latin typeface="Verdana"/>
                  <a:ea typeface="Times New Roman"/>
                </a:rPr>
                <a:t>SUPERVISÃO DAS PERÍCIAS</a:t>
              </a:r>
              <a:endParaRPr b="1" lang="en-US" sz="40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826920" y="1141560"/>
            <a:ext cx="7345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3720" indent="-318960" algn="ctr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ados Encontrado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468360" y="189000"/>
            <a:ext cx="8135640" cy="579240"/>
            <a:chOff x="468360" y="189000"/>
            <a:chExt cx="8135640" cy="579240"/>
          </a:xfrm>
        </p:grpSpPr>
        <p:sp>
          <p:nvSpPr>
            <p:cNvPr id="109" name="AutoShape 3"/>
            <p:cNvSpPr/>
            <p:nvPr/>
          </p:nvSpPr>
          <p:spPr>
            <a:xfrm>
              <a:off x="468360" y="397080"/>
              <a:ext cx="8135640" cy="168120"/>
            </a:xfrm>
            <a:prstGeom prst="roundRect">
              <a:avLst>
                <a:gd name="adj" fmla="val 9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10" name="Text Box 4"/>
            <p:cNvSpPr/>
            <p:nvPr/>
          </p:nvSpPr>
          <p:spPr>
            <a:xfrm>
              <a:off x="468360" y="189000"/>
              <a:ext cx="8135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80"/>
                  </a:solidFill>
                  <a:uFillTx/>
                  <a:latin typeface="Verdana"/>
                  <a:ea typeface="Times New Roman"/>
                </a:rPr>
                <a:t>SUPERVISÃO DAS PERÍCIAS</a:t>
              </a:r>
              <a:endParaRPr b="1" lang="en-US" sz="40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324000" y="2276640"/>
          <a:ext cx="8496000" cy="2877840"/>
        </p:xfrm>
        <a:graphic>
          <a:graphicData uri="http://schemas.openxmlformats.org/drawingml/2006/table">
            <a:tbl>
              <a:tblPr/>
              <a:tblGrid>
                <a:gridCol w="1765080"/>
                <a:gridCol w="2575080"/>
                <a:gridCol w="2390760"/>
                <a:gridCol w="1765080"/>
              </a:tblGrid>
              <a:tr h="640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FRA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udos 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atório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640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ervisão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or. Irreg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06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-06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4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73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-07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9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33</a:t>
                      </a:r>
                      <a:endParaRPr b="1" lang="en-US" sz="2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539640" y="1677960"/>
          <a:ext cx="8209080" cy="4114800"/>
        </p:xfrm>
        <a:graphic>
          <a:graphicData uri="http://schemas.openxmlformats.org/drawingml/2006/table">
            <a:tbl>
              <a:tblPr/>
              <a:tblGrid>
                <a:gridCol w="5002200"/>
                <a:gridCol w="849600"/>
                <a:gridCol w="766440"/>
                <a:gridCol w="870120"/>
                <a:gridCol w="720720"/>
              </a:tblGrid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FRA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-06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-07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REGULARIDADE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TADE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TADE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Área menor que a financiada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94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53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ção difere do laudo oficial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,31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,11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to executor da perícia não assinou o laudo 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83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35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l de plantio fora do previsto no contrato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46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9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to não cumpriu o prazo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5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ão plantou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91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92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pSp>
        <p:nvGrpSpPr>
          <p:cNvPr id="113" name="Group 2"/>
          <p:cNvGrpSpPr/>
          <p:nvPr/>
        </p:nvGrpSpPr>
        <p:grpSpPr>
          <a:xfrm>
            <a:off x="468360" y="160560"/>
            <a:ext cx="8135640" cy="521280"/>
            <a:chOff x="468360" y="160560"/>
            <a:chExt cx="8135640" cy="521280"/>
          </a:xfrm>
        </p:grpSpPr>
        <p:sp>
          <p:nvSpPr>
            <p:cNvPr id="114" name="AutoShape 3"/>
            <p:cNvSpPr/>
            <p:nvPr/>
          </p:nvSpPr>
          <p:spPr>
            <a:xfrm>
              <a:off x="468360" y="339840"/>
              <a:ext cx="8135640" cy="168120"/>
            </a:xfrm>
            <a:prstGeom prst="roundRect">
              <a:avLst>
                <a:gd name="adj" fmla="val 9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15" name="Text Box 4"/>
            <p:cNvSpPr/>
            <p:nvPr/>
          </p:nvSpPr>
          <p:spPr>
            <a:xfrm>
              <a:off x="468360" y="160560"/>
              <a:ext cx="813564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80"/>
                  </a:solidFill>
                  <a:uFillTx/>
                  <a:latin typeface="Verdana"/>
                  <a:ea typeface="Times New Roman"/>
                </a:rPr>
                <a:t>SUPERVISÃO DAS PERÍCIAS</a:t>
              </a:r>
              <a:endParaRPr b="1" lang="en-US" sz="36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16" name="Text Box 8"/>
          <p:cNvSpPr/>
          <p:nvPr/>
        </p:nvSpPr>
        <p:spPr>
          <a:xfrm>
            <a:off x="826920" y="925560"/>
            <a:ext cx="777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3720" indent="-318960" algn="ctr">
              <a:lnSpc>
                <a:spcPct val="100000"/>
              </a:lnSpc>
              <a:tabLst>
                <a:tab algn="l" pos="0"/>
                <a:tab algn="l" pos="423720"/>
                <a:tab algn="l" pos="871560"/>
                <a:tab algn="l" pos="1320840"/>
                <a:tab algn="l" pos="1770120"/>
                <a:tab algn="l" pos="2219400"/>
                <a:tab algn="l" pos="2668680"/>
                <a:tab algn="l" pos="3117960"/>
                <a:tab algn="l" pos="3567240"/>
                <a:tab algn="l" pos="4016520"/>
                <a:tab algn="l" pos="4465800"/>
                <a:tab algn="l" pos="4915080"/>
                <a:tab algn="l" pos="5364000"/>
                <a:tab algn="l" pos="5813280"/>
                <a:tab algn="l" pos="6262560"/>
                <a:tab algn="l" pos="6711840"/>
                <a:tab algn="l" pos="7161120"/>
                <a:tab algn="l" pos="7610400"/>
                <a:tab algn="l" pos="8059680"/>
                <a:tab algn="l" pos="8508960"/>
                <a:tab algn="l" pos="8958240"/>
                <a:tab algn="l" pos="940752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ais irregularidades encontrada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68360" y="631800"/>
            <a:ext cx="8135640" cy="579240"/>
            <a:chOff x="468360" y="631800"/>
            <a:chExt cx="8135640" cy="579240"/>
          </a:xfrm>
        </p:grpSpPr>
        <p:sp>
          <p:nvSpPr>
            <p:cNvPr id="118" name="AutoShape 3"/>
            <p:cNvSpPr/>
            <p:nvPr/>
          </p:nvSpPr>
          <p:spPr>
            <a:xfrm>
              <a:off x="468360" y="839880"/>
              <a:ext cx="8135640" cy="168120"/>
            </a:xfrm>
            <a:prstGeom prst="roundRect">
              <a:avLst>
                <a:gd name="adj" fmla="val 94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19" name="Text Box 4"/>
            <p:cNvSpPr/>
            <p:nvPr/>
          </p:nvSpPr>
          <p:spPr>
            <a:xfrm>
              <a:off x="468360" y="631800"/>
              <a:ext cx="8135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80"/>
                  </a:solidFill>
                  <a:uFillTx/>
                  <a:latin typeface="Verdana"/>
                  <a:ea typeface="Times New Roman"/>
                </a:rPr>
                <a:t>SUPERVISÃO DAS PERÍCIAS</a:t>
              </a:r>
              <a:endParaRPr b="1" lang="en-US" sz="40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120" name="Group 5"/>
          <p:cNvGrpSpPr/>
          <p:nvPr/>
        </p:nvGrpSpPr>
        <p:grpSpPr>
          <a:xfrm>
            <a:off x="179280" y="1628640"/>
            <a:ext cx="8964360" cy="4198680"/>
            <a:chOff x="179280" y="1628640"/>
            <a:chExt cx="8964360" cy="4198680"/>
          </a:xfrm>
        </p:grpSpPr>
        <p:sp>
          <p:nvSpPr>
            <p:cNvPr id="121" name="AutoShape 6"/>
            <p:cNvSpPr/>
            <p:nvPr/>
          </p:nvSpPr>
          <p:spPr>
            <a:xfrm>
              <a:off x="179280" y="1628640"/>
              <a:ext cx="8964360" cy="293328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179280" y="1628640"/>
              <a:ext cx="8964360" cy="41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19040" indent="-314280">
                <a:lnSpc>
                  <a:spcPct val="105000"/>
                </a:lnSpc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GB" sz="3400" spc="-1" strike="noStrike">
                  <a:solidFill>
                    <a:srgbClr val="000000"/>
                  </a:solidFill>
                  <a:latin typeface="Arial"/>
                </a:rPr>
                <a:t>AÇÕES DESENVOLVIDAS</a:t>
              </a:r>
              <a:endParaRPr b="1" lang="en-US" sz="34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120000"/>
                </a:lnSpc>
                <a:spcBef>
                  <a:spcPts val="638"/>
                </a:spcBef>
                <a:buClr>
                  <a:srgbClr val="006600"/>
                </a:buClr>
                <a:buSzPct val="80000"/>
                <a:buFont typeface="Wingdings" charset="2"/>
                <a:buChar char=""/>
                <a:tabLst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GB" sz="3400" spc="-1" strike="noStrike">
                  <a:solidFill>
                    <a:srgbClr val="006600"/>
                  </a:solidFill>
                  <a:latin typeface="Arial"/>
                </a:rPr>
                <a:t>Produção e encaminhamento dos </a:t>
              </a:r>
              <a:r>
                <a:rPr b="1" lang="en-GB" sz="3400" spc="-1" strike="noStrike" u="sng">
                  <a:solidFill>
                    <a:srgbClr val="808000"/>
                  </a:solidFill>
                  <a:uFillTx/>
                  <a:latin typeface="Arial"/>
                </a:rPr>
                <a:t>Relatórios de Ocorrência de Irregularidades</a:t>
              </a:r>
              <a:r>
                <a:rPr b="1" lang="en-GB" sz="3400" spc="-1" strike="noStrike">
                  <a:solidFill>
                    <a:srgbClr val="006600"/>
                  </a:solidFill>
                  <a:latin typeface="Arial"/>
                </a:rPr>
                <a:t> aos órgãos competentes (Emater, Agentes financeiros, CREA, MP)</a:t>
              </a:r>
              <a:endParaRPr b="1" lang="en-US" sz="34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105000"/>
                </a:lnSpc>
                <a:spcBef>
                  <a:spcPts val="638"/>
                </a:spcBef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GB" sz="3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1" lang="en-US" sz="34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90000"/>
                </a:lnSpc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endParaRPr b="1" lang="en-US" sz="3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"/>
          <p:cNvGrpSpPr/>
          <p:nvPr/>
        </p:nvGrpSpPr>
        <p:grpSpPr>
          <a:xfrm>
            <a:off x="179280" y="1628640"/>
            <a:ext cx="8964360" cy="3317400"/>
            <a:chOff x="179280" y="1628640"/>
            <a:chExt cx="8964360" cy="3317400"/>
          </a:xfrm>
        </p:grpSpPr>
        <p:sp>
          <p:nvSpPr>
            <p:cNvPr id="124" name="AutoShape 6"/>
            <p:cNvSpPr/>
            <p:nvPr/>
          </p:nvSpPr>
          <p:spPr>
            <a:xfrm>
              <a:off x="179280" y="1628640"/>
              <a:ext cx="8964360" cy="293580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179280" y="1628640"/>
              <a:ext cx="8964360" cy="33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419040" indent="-314280" algn="ctr">
                <a:lnSpc>
                  <a:spcPct val="130000"/>
                </a:lnSpc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r>
                <a:rPr b="1" lang="en-US" sz="4800" spc="-1" strike="noStrike">
                  <a:solidFill>
                    <a:srgbClr val="000080"/>
                  </a:solidFill>
                  <a:latin typeface="Arial"/>
                </a:rPr>
                <a:t>OUTRAS IRREGULARIDADES CONSTATADAS, PORÉM NÃO REGISTRADAS</a:t>
              </a:r>
              <a:r>
                <a:rPr b="1" lang="en-US" sz="3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1" lang="en-US" sz="3400" spc="-1" strike="noStrike">
                <a:solidFill>
                  <a:srgbClr val="006600"/>
                </a:solidFill>
                <a:latin typeface="Arial"/>
              </a:endParaRPr>
            </a:p>
            <a:p>
              <a:pPr marL="419040" indent="-314280">
                <a:lnSpc>
                  <a:spcPct val="90000"/>
                </a:lnSpc>
                <a:tabLst>
                  <a:tab algn="l" pos="0"/>
                  <a:tab algn="l" pos="419040"/>
                  <a:tab algn="l" pos="866880"/>
                  <a:tab algn="l" pos="1316160"/>
                  <a:tab algn="l" pos="1765440"/>
                  <a:tab algn="l" pos="2214720"/>
                  <a:tab algn="l" pos="2664000"/>
                  <a:tab algn="l" pos="3112920"/>
                  <a:tab algn="l" pos="3562200"/>
                  <a:tab algn="l" pos="4011480"/>
                  <a:tab algn="l" pos="4460760"/>
                  <a:tab algn="l" pos="4910040"/>
                  <a:tab algn="l" pos="5359320"/>
                  <a:tab algn="l" pos="5808600"/>
                  <a:tab algn="l" pos="6257880"/>
                  <a:tab algn="l" pos="6707160"/>
                  <a:tab algn="l" pos="7156440"/>
                  <a:tab algn="l" pos="7605720"/>
                  <a:tab algn="l" pos="8055000"/>
                  <a:tab algn="l" pos="8504280"/>
                  <a:tab algn="l" pos="8953560"/>
                  <a:tab algn="l" pos="9402840"/>
                  <a:tab algn="l" pos="10058400"/>
                </a:tabLst>
              </a:pPr>
              <a:endParaRPr b="1" lang="en-US" sz="3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shiba</dc:creator>
  <dc:description/>
  <dc:language>en-US</dc:language>
  <cp:lastModifiedBy>.</cp:lastModifiedBy>
  <dcterms:modified xsi:type="dcterms:W3CDTF">2007-12-19T21:33:02Z</dcterms:modified>
  <cp:revision>166</cp:revision>
  <dc:subject/>
  <dc:title>Slide 1</dc:title>
</cp:coreProperties>
</file>