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5D1-1AE3-40C6-8A34-4A0676E2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915-DC43-4925-9AC7-A67B3ED3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446-3D03-43EA-8113-4FEA6E3F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396-49EA-43C2-BA7C-30A84559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0F16-B74E-4B5A-AFF9-5CFE0390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9E70-7A28-4E3A-95DD-0117957A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EFD9-8B66-41ED-BDBA-91CF0B0B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F40E-A29E-4004-AD1F-1C14D8B4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9D8B-7323-4D78-B797-166A4277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86BE-1DE8-465E-9BC6-4DB7ADA6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D5DF-5C68-480A-A09B-8505A95C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4B0-DD0C-47B3-8F51-7A9B1434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59CF-7D86-4AA6-9084-B1810556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6744-C757-404F-849D-C5B72D1B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60DF-29F4-4C66-8E7F-C6CB22D1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E2CB-7FC7-4DE3-9789-986D5A01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82CD-F417-4A82-8EA8-92810D24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AAD-CCCC-4DD2-97A3-0E044DFD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D86-B238-4FA3-B6CE-B0DC9A7D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887-EFCD-48C1-9F77-7C6944EE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BA7-04D2-43CA-8DFF-D9F960BF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B05-8EDA-45AE-8042-54B49ECB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289-8E9C-4380-BA89-02E6490C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F4A-3225-4D35-B631-6F0105F7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B484-8BD2-4F0C-AEF6-D636E662C4B8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B4C-5C90-4CAC-929C-6D9849EB29E4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125360"/>
            <a:ext cx="867564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66cc"/>
                </a:solidFill>
                <a:latin typeface="Comic Sans MS"/>
              </a:rPr>
              <a:t>PROAGR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66cc"/>
                </a:solidFill>
                <a:latin typeface="Comic Sans MS"/>
              </a:rPr>
              <a:t>ASPECT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66cc"/>
                </a:solidFill>
                <a:latin typeface="Comic Sans MS"/>
              </a:rPr>
              <a:t>OPERACIONA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692280"/>
            <a:ext cx="853308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ra empreendimentos com ASTEC – exigir laudos de acompanhamento e entregá-los ao agente financei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unicar ao agente a ocorrência de eventos causador de perd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95280" y="981000"/>
            <a:ext cx="8408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285840"/>
            <a:ext cx="87678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brigações da ASSISTÊNCIA TÉC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rientação para utilização de tecnologia adequada a cada cultura, orientação quanto ao zoneamento agrícola e aos procedimentos necessários em caso de acionamento do segu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ara projetos com ASTEC é obrigatório a elaboração dos laudos de assistência técnica, no mínimo nas fases de pós emergência, floração/frutificação e pré colheita da lavo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700280"/>
            <a:ext cx="858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O enquadramento está restrito a empreendimentos conduzidos sob as condições do Zoneamento Agrícola Climático, divulgado pelo MAP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NQUADRAMEN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72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CEÇÕ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avouras irrigadas, mesmo quando não houver sido concluído o zonea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PRONAF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Lavouras de mandioca, manoma, uva e banana onde ainda não houver sido concluído o zonea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Lavouras consorciadas, quando a cultura principal conte com zonea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Lavouras formadas com cultivar local ou crioula, desde que cadastrada no M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85840"/>
            <a:ext cx="8964720" cy="67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ORES ENQUADRAD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quadra-se no programa o valor nominal total do orçamento do    empreendi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ve ser computado como recursos próprios o valor dos insum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dquiridos anteriormente e não financiados na oper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 produção própria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de-se incluir no orçamento as despesas de AST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49360"/>
            <a:ext cx="89852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Enquadra-se obrigatoriamente no SEA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100 % do valor financia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Como recurso próprio, o valor correspondente a até 65% da receita liquida esperada, limitado a 100% do valor financiado ou a R$ 1.800,00, o que for men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8589960" cy="75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rmite-se o enquadramento de mais de uma operação para o empreendimento na mesma safra, desde que a lavoura do primeiro enquadramento já tenha sido colh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eda-se o enquadramento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cursos que elevem o risco a mais de R$ 150.000,00 com o mesmo beneficiá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mpreendimento já enquadrado na mesma saf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mpreendimento que tiver 3 coberturas deferidas, consecutivas ou não no período de 60 meses anteriores à solicitação do enquadr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quisição de insumos como antecipação de custe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2200" y="620640"/>
            <a:ext cx="837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No Proagro Mais o direito ao enquadramento e à cobertura  de recursos próprios é de no máximo R$ 1.800,00, por beneficiário e ano agrícola, independente da quantidade de empreendimentos amparad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6200" y="44280"/>
            <a:ext cx="8767800" cy="59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DES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pcional para linhas de crédito que não PRON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RONAF ADESÃO AUTOMÁTIC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Exceção feita em 2007/2008, no caso de renovação automática,quando a adesão foi opcion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9000"/>
            <a:ext cx="9231480" cy="64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Comic Sans MS"/>
              </a:rPr>
              <a:t>VIGÊNCI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Início: Emergência das plant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Fim:   Colheita ou Término da 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época de colheita para a 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ultivar, o que ocorrer 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rimeir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7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6200" y="21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3120" y="285840"/>
            <a:ext cx="8840880" cy="68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ra efeito do PROAGRO / SEAF, considera-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mpreendimento: atividade identificada, </a:t>
            </a: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cumulativamente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elo n° do CNPJ ou CPF dos beneficiários, código do município e n° código do empreendi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o único empreendimento: a atividade identificada, </a:t>
            </a: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cumulativamente,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elo mesmo n° de CNPJ ou CPF, mesmo código do município, </a:t>
            </a: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mesma safr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mesmo n° código do empreendi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6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DICION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fé : 4,7 %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vada e Trigo Irrigado : 2 %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emais culturas irrigadas : 1,7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godão, Milho, Soja e Mandio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equeiro PC: 3,9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vada e Trigo sequeiro PC : 5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ilho e Soja sequeiro PD : 2,9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vada e trigo sequeiro PD : 4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PRONAF : 2 % PARA QUALQUER LAVO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7840" y="50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7840" y="141120"/>
            <a:ext cx="869616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EVENTOS COBER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uva excess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ea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raniz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Variação excessiva de temperatu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Ventos for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Ventos fr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ença fungíca ou praga sem método difundido de contr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76200" y="921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141120"/>
            <a:ext cx="86961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ARTICULARIDADES SEAF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VALOR COBERTURA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(100 % DO VALOR SEGURADO + JUROS) – (Receita Bruta obtida com a colheita + Parcelas do financiamento não aplicadas + Perdas por causas não amparad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ATIL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Perda maior que 30 % causada por evento amparado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Receita Bruta Obtida menor que 70 % da Receita Bruta Esp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76200" y="921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7840" y="141120"/>
            <a:ext cx="8696160" cy="65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Receita Bruta Espera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É aquela prevista em planilhas técnicas dos agentes do programa, utilizadas quando da concessão do crédito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Receita Líquida Espera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Receita Bruta Esperada menos o Valor do Financiament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76200" y="921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5240" y="28908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EMPLO ENQUADR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125360"/>
          <a:ext cx="9144000" cy="5399280"/>
        </p:xfrm>
        <a:graphic>
          <a:graphicData uri="http://schemas.openxmlformats.org/drawingml/2006/table">
            <a:tbl>
              <a:tblPr/>
              <a:tblGrid>
                <a:gridCol w="5635800"/>
                <a:gridCol w="1573200"/>
                <a:gridCol w="1935000"/>
              </a:tblGrid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- VALOR FINANCI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3.000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9.000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 - RECEITA BRUTA ESPER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5.688,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17.065,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 - RECEITA LÍQUIDA ESPERADA (B - A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2.688,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8.065,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 - 65 % DA RECEITA LÍQUIDA ESPER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1.747,6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5.242,86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 - VALOR ENQUADRADO DA REN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1.747,6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1.800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 - VALOR ENQUADRADO TOTAL (A + E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4.747,6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10.800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 - ADICIONAL ( 2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94,9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$ 216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Cultu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So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So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Valor R$ / 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723,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723,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Área (h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4,1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12,4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Produtividade (Kg/ha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30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30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Valor Produto contratação (R$/K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76280"/>
            <a:ext cx="891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DIMISTRAÇÃO PROAGRO / SEA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ANCO CENTRAL DO BRASIL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573360"/>
            <a:ext cx="891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GENTES PROAGRO / SEA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stituições financeiras autorizadas a operar em crédito rural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476280"/>
            <a:ext cx="8918640" cy="62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NEFICIÁRIOS PROAGRO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odutores rurais e suas cooperativ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NEFICIÁRIOS SEA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gricultores familiares que tomam financiamento de custeio no PRONA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981000"/>
            <a:ext cx="8408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6200" y="285840"/>
            <a:ext cx="8767800" cy="71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brigações do beneficiári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tilizar tecnologia capaz de assegurar, no mínimo a obtenção dos rendimentos programad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tregar ao agente, croqui ou mapa localização áre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ntregar orçamento analítico das despesas previstas – ATÉ 31/06/2008 SOMENTE PARA PROGER E DEM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</a:rPr>
              <a:t>A PARTIR DE 01/07/2008  PARA PRONAF SERÁ NECESSÁRIO APRESENTAR O ORÇAMENTO SIMPLIFIC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981000"/>
            <a:ext cx="84088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6200" y="285840"/>
            <a:ext cx="876780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É 30/06/2008 - para empreendimentos &gt;= R$ 17.000,00 apresentar análise química do solo com até dois 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A partir de 01/07/2008, para empreendimentos &gt;= R$ 8.000,00 – providenciar análise química de solo com até 2 anos de emissão e análise física do solo com até 4 anos de emiss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9000"/>
            <a:ext cx="8532720" cy="82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tregar os comprovantes de aquisição de insumos utilizados, quando comunicar a ocorrência de per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ara PRONAF, até 30/06/2008 está dispensado a entrega dos comprovantes, devendo o beneficiário manter os comprovantes em seu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mite-se como comprovante de insumos: a primeira via da nota fiscal, nominal ao beneficiário, ou cópia autenticada pelo agente ou em cartó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549360"/>
            <a:ext cx="853272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do se tratar de insumos de fabricação própria,  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demonstrar a estrutura de fabricação,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evendo ainda estar estar especificado no orçamento analític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ara PRONAF não há necessidade de constar no orçamento analític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9000"/>
            <a:ext cx="8532720" cy="74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mite-se declaração do beneficiário como comprovante de utilização de sementes no caso de lavouras formadas com grãos reservados – Lei 10.711 de 5/8/2003 e Decreto 5153 de 23/08/2004, desde q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visão de uso no orçamen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presentar Nota Fiscal de aquisição de semente certificada no ano anteri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ando se tratar de cultivar protegida, deve ser proveniente de áreas inscritas no MAP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3:05:50Z</dcterms:created>
  <dc:creator>usuario</dc:creator>
  <dc:description/>
  <dc:language>en-US</dc:language>
  <cp:lastModifiedBy>Banco do Brasil</cp:lastModifiedBy>
  <dcterms:modified xsi:type="dcterms:W3CDTF">2007-12-19T17:29:50Z</dcterms:modified>
  <cp:revision>14</cp:revision>
  <dc:subject/>
  <dc:title>Slide 1</dc:title>
</cp:coreProperties>
</file>