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B39-3045-4EEB-BC93-4948307F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3064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DA3-2813-4976-AF63-206325A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732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400-9104-4C1D-8E6A-95FE1F8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364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2720" y="198108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364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2720" y="4130640"/>
            <a:ext cx="301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8C8-7C3E-4748-85EA-B9C5C8C6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CE7-E157-4713-BADE-745962D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5C7-F2F7-4853-B37A-9C4E289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0CB-3DB9-4445-9610-2838472E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E64-180C-487B-8B94-6862DC22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14360" y="152280"/>
            <a:ext cx="8439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083-344A-4522-B805-3499C8D2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719-29B0-427B-A74C-05D831C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7320" y="413064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B0D-EBD7-43BC-B4D9-EB2A933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4360" y="120600"/>
            <a:ext cx="8439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7320" y="1981080"/>
            <a:ext cx="457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30640"/>
            <a:ext cx="937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EDF-A2E9-4C21-9007-D3DC352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4360" y="152280"/>
            <a:ext cx="843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98108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7960" y="6552720"/>
            <a:ext cx="577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8CA-95A6-429A-B0AF-EFEAD7319A6F}" type="slidenum">
              <a:rPr b="0" lang="pt-BR" sz="12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309400" y="6858000"/>
            <a:ext cx="990720" cy="914400"/>
          </a:xfrm>
          <a:prstGeom prst="ellipse">
            <a:avLst/>
          </a:prstGeom>
          <a:noFill/>
          <a:ln w="0">
            <a:noFill/>
          </a:ln>
          <a:effectLst>
            <a:outerShdw dist="53966" dir="2700000" blurRad="0" rotWithShape="0">
              <a:srgbClr val="00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990612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0120" y="609480"/>
            <a:ext cx="9245520" cy="23623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Programa de Garantia da Atividade Agropecuária - PROAGR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3160" y="3580920"/>
            <a:ext cx="7656480" cy="121932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Cascavel – P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20/12/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btLogoAnimado" descr=""/>
          <p:cNvPicPr/>
          <p:nvPr/>
        </p:nvPicPr>
        <p:blipFill>
          <a:blip r:embed="rId2"/>
          <a:stretch/>
        </p:blipFill>
        <p:spPr>
          <a:xfrm>
            <a:off x="8610480" y="5562720"/>
            <a:ext cx="1067040" cy="103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6934320" y="5562720"/>
          <a:ext cx="15238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5562720"/>
                    <a:ext cx="1523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34320" y="6172200"/>
            <a:ext cx="83808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924680" y="6172200"/>
            <a:ext cx="540000" cy="39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63880" y="304920"/>
            <a:ext cx="671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ceiro da Agricultur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990720"/>
            <a:ext cx="81885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13716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RONAF “C” - INVEST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94716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6252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terial do curso disponivel 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219320"/>
            <a:ext cx="899172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809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Verdana"/>
              </a:rPr>
              <a:t>www.atrpr.c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B3F-4DD1-4462-9024-D0E6D069F6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63880" y="304920"/>
            <a:ext cx="671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rceiro da Agricultur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7920" y="990720"/>
            <a:ext cx="81885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6200" y="1371600"/>
            <a:ext cx="77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RONAF “C” - INVEST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94716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61080" y="30481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6252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aut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219320"/>
            <a:ext cx="8991720" cy="89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8:30 – Inscriçõ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09:00 – Abertura oficial (Renato Jasper – Emate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09:10 – Auditoria de perícias feita pelo MDA (Pedro Antonio Xavier – BB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09:40 – Histórico do Proagro (Elaina Reis – Emater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0:00 – Interva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0:20 – Condições Operacionais Proagro/Seaf (Eliana Reis – Emater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2:00 – Almoç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3:30 – Zoneamento Agrícola (Pedro Antonio Xavier – BB)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4:00 – Periciamento e comprovação de perdas (Leandro Capuzzo – BB)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16:00 – Discussões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F2F-98C0-4B18-9E7B-27C26A7FAD5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060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Mapa_PR_preto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5302080"/>
            <a:ext cx="86360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Obrigado pela presenç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001000" y="838080"/>
          <a:ext cx="1523880" cy="54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838080"/>
                    <a:ext cx="1523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8001000" y="1447920"/>
            <a:ext cx="838080" cy="377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8915400" y="1447920"/>
            <a:ext cx="539640" cy="39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23B-BDDF-424E-9C91-74201AF935E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19:09:00Z</dcterms:created>
  <dc:creator>Ministerio da Agricultura</dc:creator>
  <dc:description/>
  <dc:language>en-US</dc:language>
  <cp:lastModifiedBy>Banco do Brasil</cp:lastModifiedBy>
  <cp:lastPrinted>2002-07-02T22:20:43Z</cp:lastPrinted>
  <dcterms:modified xsi:type="dcterms:W3CDTF">2007-12-19T18:03:02Z</dcterms:modified>
  <cp:revision>755</cp:revision>
  <dc:subject/>
  <dc:title> I. CENÁRIO ECONÔMICO MUNDIAL E O AGRONEGÓCIO BRASILEIRO  As estimativas para o ano 2000 apontam para um crescimento da economia mundial, segundo a OCDE, da ordem de 4 %. O comércio mundial crescerá, segundo a OMC, na faixa de 6,5 %.  A América Latina tem perspectiva de crescer em torno de 2,5 %, observando-se  nítida recuperação das crises ocorridas no ano anterior.  A economia brasileira deverá crescer em torno de 3,7% no ano 2000 e 4% no ano 2001. O PIB agropecuário deverá crescer a taxa menor do que o alto índice de 9% registrado no ano de 1999. A meta é alcançar um incremento de  4% na produção agrícola, sendo 2% resultado de ganhos de produtividade.  A participação do agronegócio na formação do PIB continuará com o peso aproximado de 1/3 do total. Este desempenho será muito importante na estabilização do índice de preços de alimentos e contenção dos custos das matérias-primas industriais. A indispensável contribuição dos produtos oriundos da agricultura na pauta de exportações do país será reafirmada com um aumento no saldo da balança comercial setorial, de US$13,4 bilhões, em 1999, para mais de US$15 bilhões no corrente ano. Outro aspecto absolutamente relevante é a manutenção da capacidade de absorção de 24,5 % da força de trabalho do país na atividade agropecuária. A ação do governo, através do Plano Safra 2000/01, reflete a importância do setor e sua inserção no contexto econômico e social, bem como a necessidade de se dinamizar a expansão dos segmentos estratégicos. Destacam-se neste Plano o lançamento de programas específicos destinados a aumentar produtividade  e concretizar investimentos beneficiados com taxa de juros fixa ( 8,75 % ), o aumento no montante de recursos destinado ao financiamento agrícola e a flexibilização das normas e limites no crédito rural.  .</dc:title>
</cp:coreProperties>
</file>