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E87-200D-4464-B4DF-6D4B5799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937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4130640"/>
            <a:ext cx="937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FA3-7188-49A5-B52E-E9E4E823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7320" y="413064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53C-6BFF-450C-8ACE-AFD6A506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3640" y="198108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2720" y="198108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413064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3640" y="413064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2720" y="413064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2C9-B560-4913-B3D7-E7879FAA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98108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E33-982B-465B-81F7-20A61188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C7A-9082-42B1-97D2-4F95F23D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34E-CF91-4596-A67D-17BBFB57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00F-5BA0-4334-98AF-DCDF652E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14360" y="152280"/>
            <a:ext cx="8439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862-4420-4909-A2EE-E81C6C67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99A-D827-41FD-A865-9C493148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7320" y="413064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E82-1508-4AD9-9337-1E008185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937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61C-DCA1-4F1E-8584-92F34FF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06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14360" y="152280"/>
            <a:ext cx="843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98108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27960" y="6552720"/>
            <a:ext cx="577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8275-3274-408F-A9CC-F2516AF26088}" type="slidenum">
              <a:rPr b="0" lang="en-US" sz="12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309400" y="6858000"/>
            <a:ext cx="990720" cy="914400"/>
          </a:xfrm>
          <a:prstGeom prst="ellipse">
            <a:avLst/>
          </a:prstGeom>
          <a:noFill/>
          <a:ln w="0">
            <a:noFill/>
          </a:ln>
          <a:effectLst>
            <a:outerShdw dist="53966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914400"/>
            <a:ext cx="990612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0120" y="609480"/>
            <a:ext cx="9245520" cy="23623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Programa de Garantia da Atividade Agropecuária - PROAGR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73160" y="3580920"/>
            <a:ext cx="7656480" cy="12193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Maringá – P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09/07/200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btLogoAnimado" descr=""/>
          <p:cNvPicPr/>
          <p:nvPr/>
        </p:nvPicPr>
        <p:blipFill>
          <a:blip r:embed="rId2"/>
          <a:stretch/>
        </p:blipFill>
        <p:spPr>
          <a:xfrm>
            <a:off x="8610480" y="5562720"/>
            <a:ext cx="1067040" cy="103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6934320" y="5562720"/>
          <a:ext cx="152388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5562720"/>
                    <a:ext cx="1523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934320" y="6172200"/>
            <a:ext cx="83808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924680" y="6172200"/>
            <a:ext cx="540000" cy="39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06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63880" y="304920"/>
            <a:ext cx="6718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rceiro da Agricultur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7920" y="990720"/>
            <a:ext cx="81885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1371600"/>
            <a:ext cx="77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PRONAF “C” - INVEST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76320"/>
            <a:ext cx="9947160" cy="684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6108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62520" y="30481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pacitação Proagro</a:t>
            </a:r>
            <a:r>
              <a:rPr b="1" lang="pt-BR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erí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219320"/>
            <a:ext cx="8991720" cy="89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08:30 – Abertura (pauta, objetivos, etc.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09:00 – Histórico do Proagro (Orlando Lisboa de Almeida – BB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09:20 – Zoneamento Agrícola (Edson Diogo – Emater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0:15 – Interval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0:30 – Auditoria de perícias feita pelo MDA (Carlos A. Bortoletto – BB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1:00 – Condições Operacionais Proagro/Seaf (Orlando L. Almeida – BB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2:00 – Almoç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3:30 – Seguro da Agricultura Familiar - SEAF (Edson Diogo – Emater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4:30 – Periciamento e comprovação de perdas (Carlos A. Bortoletto – BB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7:30 – Discussões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D36-7D4D-4E58-A272-CB9CE79C53B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06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pa_PR_preto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5302080"/>
            <a:ext cx="86360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rigado pela presenç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001000" y="838080"/>
          <a:ext cx="1523880" cy="54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838080"/>
                    <a:ext cx="1523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001000" y="1447920"/>
            <a:ext cx="838080" cy="37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8915400" y="1447920"/>
            <a:ext cx="539640" cy="392040"/>
          </a:xfrm>
          <a:prstGeom prst="rect">
            <a:avLst/>
          </a:prstGeom>
          <a:ln w="0">
            <a:noFill/>
          </a:ln>
        </p:spPr>
      </p:pic>
      <p:pic>
        <p:nvPicPr>
          <p:cNvPr id="65" name="btLogoAnimado" descr=""/>
          <p:cNvPicPr/>
          <p:nvPr/>
        </p:nvPicPr>
        <p:blipFill>
          <a:blip r:embed="rId6"/>
          <a:stretch/>
        </p:blipFill>
        <p:spPr>
          <a:xfrm>
            <a:off x="8458200" y="1862280"/>
            <a:ext cx="685800" cy="66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075-EEFC-4FD0-B3F9-C270920431B4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8T19:09:00Z</dcterms:created>
  <dc:creator>Ministerio da Agricultura</dc:creator>
  <dc:description/>
  <dc:language>en-US</dc:language>
  <cp:lastModifiedBy>Banco do Brasil</cp:lastModifiedBy>
  <cp:lastPrinted>2002-07-02T22:20:43Z</cp:lastPrinted>
  <dcterms:modified xsi:type="dcterms:W3CDTF">2008-07-09T02:32:38Z</dcterms:modified>
  <cp:revision>763</cp:revision>
  <dc:subject/>
  <dc:title> I. CENÁRIO ECONÔMICO MUNDIAL E O AGRONEGÓCIO BRASILEIRO  As estimativas para o ano 2000 apontam para um crescimento da economia mundial, segundo a OCDE, da ordem de 4 %. O comércio mundial crescerá, segundo a OMC, na faixa de 6,5 %.  A América Latina tem perspectiva de crescer em torno de 2,5 %, observando-se  nítida recuperação das crises ocorridas no ano anterior.  A economia brasileira deverá crescer em torno de 3,7% no ano 2000 e 4% no ano 2001. O PIB agropecuário deverá crescer a taxa menor do que o alto índice de 9% registrado no ano de 1999. A meta é alcançar um incremento de  4% na produção agrícola, sendo 2% resultado de ganhos de produtividade.  A participação do agronegócio na formação do PIB continuará com o peso aproximado de 1/3 do total. Este desempenho será muito importante na estabilização do índice de preços de alimentos e contenção dos custos das matérias-primas industriais. A indispensável contribuição dos produtos oriundos da agricultura na pauta de exportações do país será reafirmada com um aumento no saldo da balança comercial setorial, de US$13,4 bilhões, em 1999, para mais de US$15 bilhões no corrente ano. Outro aspecto absolutamente relevante é a manutenção da capacidade de absorção de 24,5 % da força de trabalho do país na atividade agropecuária. A ação do governo, através do Plano Safra 2000/01, reflete a importância do setor e sua inserção no contexto econômico e social, bem como a necessidade de se dinamizar a expansão dos segmentos estratégicos. Destacam-se neste Plano o lançamento de programas específicos destinados a aumentar produtividade  e concretizar investimentos beneficiados com taxa de juros fixa ( 8,75 % ), o aumento no montante de recursos destinado ao financiamento agrícola e a flexibilização das normas e limites no crédito rural.  .</dc:title>
</cp:coreProperties>
</file>