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2BD-E51E-455B-8ABE-4DA85A6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C5F-AC1F-47A3-88D3-AE2368D2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6D8-6C73-4F85-8D62-3763CD12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13A-1502-480A-AE33-7C74C475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D86-C86D-4F6C-87C4-0AF1750E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132B-A257-452B-AF99-86BC428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8E30-D3D4-4551-AFAC-93767216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8515-2B81-4F9C-8E86-EA3A71EE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30CE-8AFF-4C73-8ADA-2A810B9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31BA-58FA-4B0D-A372-84D9D08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EF22-7B4E-44A2-AE96-89C82FD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763-3BBD-473D-96D3-E66BCC2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AE6-D294-482E-82EB-C679831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53A-B261-40D5-8F62-CBB776B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FE0-12C0-4A7F-BC72-CAA2F9C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26F0-7EB5-432B-A103-2E122736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52EC-89A9-4DDC-B38D-B8222C2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2A9-5C24-4AAC-8667-CA94770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93C-5C89-481B-9322-ED5B3B9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79E-E50B-485F-A14D-30E7D85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B4D-BF0D-451A-BB03-0436426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605-ED24-48B2-BFBF-411C58B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209-882A-44C3-B911-08B4A73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A7C-4E32-4471-A019-92F41BE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3D27-40DA-4F21-A903-EA6FA702D8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2BC-27D6-4A22-BDB6-467EE7CAD0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549360"/>
            <a:ext cx="7991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OGRAMA DE GARANTIA DA ATIVIDADE AGROPECUÁRIA – PROAG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GURO DA AGRICULTURA FAMILIAR - SEA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67640" y="648000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04360" y="6465960"/>
            <a:ext cx="539640" cy="39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56360" y="6467400"/>
          <a:ext cx="13525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6467400"/>
                    <a:ext cx="1352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4400" y="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STÓR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5360" y="1125360"/>
            <a:ext cx="8918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O Programa de Garantia da Atividade Agropecuária –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PROAGRO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oi criado pela Lei n° 5.969, de 11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e dezembro de 197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960" y="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gislação a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5360" y="1125360"/>
            <a:ext cx="891864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MCR-16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é a nossa Bíbli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esolução n°3.478 (jul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/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0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esolução n°3.544 (fev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/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08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esolução n° 3.587, de 30 de junho de 2008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467480" y="5715000"/>
            <a:ext cx="14860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víssim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4088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 Seguro da Agricultura Familiar -</a:t>
            </a: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SEAF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(“PROAGRO MAIS”)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foi criado no Âmbito do PROAGRO pela  Resolução 3234 de 31/08/2004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333360"/>
            <a:ext cx="8820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ão instrumentos de política agrícola instituídos para   que o produtor rural tenha garantido um valor complementar para pagamento do  seu  custeio  agrícola,  em casos de ocorrência de fenômenos naturais, pragas e doenças que atinjam bens, rebanhos e plantaçõ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33360"/>
            <a:ext cx="849780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 PROAGRO e o SEAF tem como objetiv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exonerar o beneficiário do cumprimento de obrigações financeiras em operações de crédito rural de custeio, no caso de perdas das receitas em causas previstas no Manual de Crédito Rural - MC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) indenizar os recursos próprios do beneficiário, utilizados em custeio rural, no caso de perdas das receitas por causas previstas no 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c) promover a utilização de tecnologia, obedecida a orientação preconizada pela pesqui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89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 PROAGRO /  SEAF é uma política pública dinâmica e que precisa ser continuamente aperfeiçoada, por meio do desenvolvimento de estruturas operacionais eficientes e do investimento público, garantindo sustentabilidade e evolução ao Program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260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lquer política pública depende das instituições existentes em cada localidade. Neste caso, depende da rede bancária que opera o Crédito Rural - PRONAF e Outros e da rede de ATER envolvida no acompanhamento dos projetos produtivos, sendo importante, neste momento, o claro entendimento da operacionalização por parte das instituições envolvidas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05:50Z</dcterms:created>
  <dc:creator>usuario</dc:creator>
  <dc:description/>
  <dc:language>en-US</dc:language>
  <cp:lastModifiedBy>Banco do Brasil</cp:lastModifiedBy>
  <dcterms:modified xsi:type="dcterms:W3CDTF">2008-07-07T19:03:32Z</dcterms:modified>
  <cp:revision>17</cp:revision>
  <dc:subject/>
  <dc:title>Slide 1</dc:title>
</cp:coreProperties>
</file>