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5B3E-3C8E-47B6-A49A-2109A0591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F76C-EA9B-408C-811E-0682FB8A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A492-9FA5-4EEF-BE36-E10712E0C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55A2-9BB1-43ED-9C12-5AC7FB578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C3E4-B102-4158-8005-9E76131B9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030E-5223-4750-9649-9C28A642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87F1-0D5E-447A-AD4C-C3071760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D81C-8AB7-4E52-B570-4AAD0F17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8B2F-F38E-4BDE-9262-0EB65107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A7E3D-352E-49D0-ADD5-7413ABE8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3673-2CE8-4CC4-AC54-805FE4FF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BE7A-C770-4A54-B5A3-64031BA5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0EC6-96D9-401B-AC9E-E10DA4D8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B3D3-D4B3-4A4F-9D76-80E0E17E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EA80-CA89-4F29-8F0C-95527829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C7B8-EA30-4D94-A152-C8309AE3D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64F1-9E3A-4BA5-96BC-4A22A5F45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D334-E1B8-4F40-8691-ECDA3215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D8A3-319F-4A41-847D-9B0D14C6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22EB-380A-4F2F-8E4A-8396B022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2029-032D-4427-A465-3287B4A6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F28C-6C37-4193-958F-55556928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82D1-C50B-40A7-802E-E7EE6DA0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C5FE-32EF-4BF7-A26F-869253E9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3D10-8B3B-407B-BDE9-43C85B64F53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7DCE-BEDF-4BEA-82BE-BD85A39E962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9280" y="1125360"/>
            <a:ext cx="867564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Comic Sans MS"/>
              </a:rPr>
              <a:t>PROAGRO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Comic Sans MS"/>
              </a:rPr>
              <a:t>ASPECTO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Comic Sans MS"/>
              </a:rPr>
              <a:t>OPERACIONA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9280" y="692280"/>
            <a:ext cx="8533080" cy="51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ara empreendimentos com ASTEC – exigir laudos de acompanhamento e entregá-los ao agente financei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municar ao agente a ocorrência de evento causador de perda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95280" y="981000"/>
            <a:ext cx="84088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6200" y="285840"/>
            <a:ext cx="876780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brigações da ASSISTÊNCIA TÉCN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rientação para utilização de tecnologia adequada a cada cultura, orientação quanto ao zoneamento agrícola e aos procedimentos necessários em caso de acionamento do segur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ara projetos com ASTEC é obrigatório a elaboração dos laudos de assistência técnica, no mínimo nas fases de pós emergência, floração/frutificação e pré colheita da lavou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47840" y="50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700280"/>
            <a:ext cx="8588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O enquadramento está restrito a empreendimentos conduzidos sob as condições do Zoneamento Agrícola Climático, divulgado pelo MAP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0"/>
            <a:ext cx="51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ENQUADRAMEN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47840" y="50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72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XCEÇÕ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avouras irrigadas, mesmo quando não houver sido concluído o zoneame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66ff33"/>
              </a:buClr>
              <a:buFont typeface="Comic Sans MS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PRONAF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66ff33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66ff33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Lavouras de mandioca, manoma, uva e banana onde ainda não houver sido concluído o zoneame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66ff33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Lavouras consorciadas, quando a cultura principal conte com zoneame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66ff33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Lavouras formadas com cultivar local ou crioula, desde que cadastrada no M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47840" y="50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85840"/>
            <a:ext cx="8964720" cy="67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VALORES ENQUADRAD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nquadra-se no programa o valor nominal total do orçamento do empreendime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ve ser computado como recursos próprios o valor dos insum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dquiridos anteriormente e não financiados na operaçã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 produção própria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de-se incluir no orçamento as despesas de ASTE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47840" y="50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549360"/>
            <a:ext cx="8985240" cy="62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66ff"/>
                </a:solidFill>
                <a:latin typeface="Comic Sans MS"/>
              </a:rPr>
              <a:t>Enquadra-se obrigatoriamente no SEAF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66ff33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100 % do valor financiad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66ff33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buClr>
                <a:srgbClr val="66ff33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Como recurso próprio, o valor correspondente a até 65% da receita liquida esperada, limitado a 100% do valor financiado ou a R$ 1.800,00, o que for meno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47840" y="50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89000"/>
            <a:ext cx="8589960" cy="75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ermite-se o enquadramento de mais de uma operação para o empreendimento na mesma safra, desde que a lavoura do primeiro enquadramento já tenha sido colh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eda-se o enquadramento 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ecursos que elevem o risco a mais de R$ 150.000,00 com o mesmo beneficiá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mpreendimento já enquadrado na mesma saf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mpreendimento que tiver 3 coberturas deferidas, consecutivas ou não no período de 60 meses anteriores à solicitação do enquadram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quisição de insumos como antecipação de custe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47840" y="50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2200" y="620640"/>
            <a:ext cx="8372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No Proagro Mais o direito ao enquadramento e à cobertura  da renda é de no máximo R$ 1.800,00, por beneficiário e ano agrícola, independente da quantidade de empreendimentos amparados, além do custo de produçã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47840" y="50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6200" y="44280"/>
            <a:ext cx="8767800" cy="59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DESÃ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pcional para linhas de crédito que não PRONA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PRONAF ADESÃO AUTOMÁTIC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Exceção feita em 2007/2008, no caso de renovação automática,quando a adesão foi opciona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47840" y="50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89000"/>
            <a:ext cx="9231480" cy="64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Comic Sans MS"/>
              </a:rPr>
              <a:t>VIGÊNCI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Início: Emergência das plant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Fim:   Colheita ou Término da </a:t>
            </a: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época de colheita para a </a:t>
            </a: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cultivar, o que ocorrer </a:t>
            </a: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primeiro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7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76200" y="214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3120" y="285840"/>
            <a:ext cx="8840880" cy="68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ara efeito do PROAGRO / SEAF, considera-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mpreendimento: atividade identificada, </a:t>
            </a: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cumulativamente,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pelo n° do CNPJ ou CPF dos beneficiários, código do município e n° código do empreendimento no REC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o único empreendimento: a atividade identificada, </a:t>
            </a: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cumulativamente,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pelo mesmo n° de CNPJ ou CPF, mesmo código do município,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mesma safra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mesmo n° código do empreendime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47840" y="50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56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ADICIONA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afé : 4,7 %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anana e Uva : 3,5 %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emais culturas irrigadas : 1,7 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lgodão, Milho, Soja e Mandioca : 3,9 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rigo : 5 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rroz e Feijão : 6,7 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PRONAF : 2 % PARA QUALQUER LAVO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47840" y="50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7840" y="141120"/>
            <a:ext cx="8696160" cy="66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Comic Sans MS"/>
              </a:rPr>
              <a:t>EVENTOS COBERT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mic Sans MS"/>
              </a:rPr>
              <a:t>Chuva excessi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mic Sans MS"/>
              </a:rPr>
              <a:t>Gead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mic Sans MS"/>
              </a:rPr>
              <a:t>Graniz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mic Sans MS"/>
              </a:rPr>
              <a:t>Sec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mic Sans MS"/>
              </a:rPr>
              <a:t>Variação excessiva de temperatu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mic Sans MS"/>
              </a:rPr>
              <a:t>Ventos for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mic Sans MS"/>
              </a:rPr>
              <a:t>Ventos fri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mic Sans MS"/>
              </a:rPr>
              <a:t>Doença fúngica ou praga sem método difundido de contro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76200" y="921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7840" y="141120"/>
            <a:ext cx="8696160" cy="67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PARTICULARIDADES SEAF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VALOR COBERTUR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(100 % DO VALOR SEGURADO + JUROS) – (Receita Bruta obtida com a colheita + Parcelas do financiamento não aplicadas + Perdas por causas não amparada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Comic Sans MS"/>
              </a:rPr>
              <a:t>GATIL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Perda maior que 30 % causada por evento amparado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Receita Bruta Obtida menor que 70 % da Receita Bruta Espe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76200" y="921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7840" y="141120"/>
            <a:ext cx="8696160" cy="65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Receita Bruta Espera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buClr>
                <a:srgbClr val="66ff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É aquela prevista em planilhas técnicas dos agentes do programa, utilizadas quando da concessão do crédito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Receita Líquida Espera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buClr>
                <a:srgbClr val="66ff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Receita Bruta Esperada menos o Valor do Financiament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76200" y="921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5240" y="289080"/>
            <a:ext cx="52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EXEMPLO ENQUADRAM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1125360"/>
          <a:ext cx="9144000" cy="5399280"/>
        </p:xfrm>
        <a:graphic>
          <a:graphicData uri="http://schemas.openxmlformats.org/drawingml/2006/table">
            <a:tbl>
              <a:tblPr/>
              <a:tblGrid>
                <a:gridCol w="5635800"/>
                <a:gridCol w="1573200"/>
                <a:gridCol w="1935000"/>
              </a:tblGrid>
              <a:tr h="449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 - VALOR FINANCIA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$ 3.000,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$ 9.000,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 - RECEITA BRUTA ESPERA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$ 5.688,65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$ 17.065,94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 - RECEITA LÍQUIDA ESPERADA (B - A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$ 2.688,65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$ 8.065,94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 - 65 % DA RECEITA LÍQUIDA ESPERA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$ 1.747,62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$ 5.242,86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 - VALOR ENQUADRADO DA REN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$ 1.747,62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$ 1.800,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 - VALOR ENQUADRADO TOTAL (A + E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$ 4.747,62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$ 10.800,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 - ADICIONAL ( 2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$ 94,95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$ 216,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33"/>
                          </a:solidFill>
                          <a:latin typeface="Arial"/>
                          <a:ea typeface="Arial"/>
                        </a:rPr>
                        <a:t>Cultu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33"/>
                          </a:solidFill>
                          <a:latin typeface="Arial"/>
                          <a:ea typeface="Arial"/>
                        </a:rPr>
                        <a:t>Soj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33"/>
                          </a:solidFill>
                          <a:latin typeface="Arial"/>
                          <a:ea typeface="Arial"/>
                        </a:rPr>
                        <a:t>Soj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33"/>
                          </a:solidFill>
                          <a:latin typeface="Arial"/>
                          <a:ea typeface="Arial"/>
                        </a:rPr>
                        <a:t>Valor R$ / h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33"/>
                          </a:solidFill>
                          <a:latin typeface="Arial"/>
                          <a:ea typeface="Arial"/>
                        </a:rPr>
                        <a:t>723,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33"/>
                          </a:solidFill>
                          <a:latin typeface="Arial"/>
                          <a:ea typeface="Arial"/>
                        </a:rPr>
                        <a:t>723,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33"/>
                          </a:solidFill>
                          <a:latin typeface="Arial"/>
                          <a:ea typeface="Arial"/>
                        </a:rPr>
                        <a:t>Área (ha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33"/>
                          </a:solidFill>
                          <a:latin typeface="Arial"/>
                          <a:ea typeface="Arial"/>
                        </a:rPr>
                        <a:t>4,14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33"/>
                          </a:solidFill>
                          <a:latin typeface="Arial"/>
                          <a:ea typeface="Arial"/>
                        </a:rPr>
                        <a:t>12,43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33"/>
                          </a:solidFill>
                          <a:latin typeface="Arial"/>
                          <a:ea typeface="Arial"/>
                        </a:rPr>
                        <a:t>Produtividade (Kg/ha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33"/>
                          </a:solidFill>
                          <a:latin typeface="Arial"/>
                          <a:ea typeface="Arial"/>
                        </a:rPr>
                        <a:t>30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33"/>
                          </a:solidFill>
                          <a:latin typeface="Arial"/>
                          <a:ea typeface="Arial"/>
                        </a:rPr>
                        <a:t>30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33"/>
                          </a:solidFill>
                          <a:latin typeface="Arial"/>
                          <a:ea typeface="Arial"/>
                        </a:rPr>
                        <a:t>Valor Produto contratação (R$/Kg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33"/>
                          </a:solidFill>
                          <a:latin typeface="Arial"/>
                          <a:ea typeface="Arial"/>
                        </a:rPr>
                        <a:t>0,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33"/>
                          </a:solidFill>
                          <a:latin typeface="Arial"/>
                          <a:ea typeface="Arial"/>
                        </a:rPr>
                        <a:t>0,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838080" y="981360"/>
            <a:ext cx="3581640" cy="521280"/>
            <a:chOff x="838080" y="981360"/>
            <a:chExt cx="3581640" cy="521280"/>
          </a:xfrm>
        </p:grpSpPr>
        <p:sp>
          <p:nvSpPr>
            <p:cNvPr id="142" name=""/>
            <p:cNvSpPr/>
            <p:nvPr/>
          </p:nvSpPr>
          <p:spPr>
            <a:xfrm>
              <a:off x="838080" y="1161720"/>
              <a:ext cx="3581640" cy="169920"/>
            </a:xfrm>
            <a:prstGeom prst="roundRect">
              <a:avLst>
                <a:gd name="adj" fmla="val 94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38080" y="981360"/>
              <a:ext cx="3581640" cy="52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3600" spc="-1" strike="noStrike" u="sng">
                  <a:solidFill>
                    <a:srgbClr val="000080"/>
                  </a:solidFill>
                  <a:uFillTx/>
                  <a:latin typeface="Verdana"/>
                  <a:ea typeface="Times New Roman"/>
                </a:rPr>
                <a:t>COBERTURA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762120" y="2152800"/>
            <a:ext cx="7772400" cy="38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000099"/>
                </a:solidFill>
                <a:latin typeface="Arial"/>
                <a:ea typeface="Times New Roman"/>
              </a:rPr>
              <a:t>(+) Valor Enquadrado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000099"/>
                </a:solidFill>
                <a:latin typeface="Arial"/>
                <a:ea typeface="Times New Roman"/>
              </a:rPr>
              <a:t>(+) Juro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cc3300"/>
                </a:solidFill>
                <a:latin typeface="Arial"/>
                <a:ea typeface="Times New Roman"/>
              </a:rPr>
              <a:t>(-) Receita Obtida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cc3300"/>
                </a:solidFill>
                <a:latin typeface="Arial"/>
                <a:ea typeface="Times New Roman"/>
              </a:rPr>
              <a:t>(-) Financiamento Não Aplicado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cc3300"/>
                </a:solidFill>
                <a:latin typeface="Arial"/>
                <a:ea typeface="Times New Roman"/>
              </a:rPr>
              <a:t>(-) Perdas Não Amparada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609480" y="2171880"/>
          <a:ext cx="8001000" cy="3466800"/>
        </p:xfrm>
        <a:graphic>
          <a:graphicData uri="http://schemas.openxmlformats.org/drawingml/2006/table">
            <a:tbl>
              <a:tblPr/>
              <a:tblGrid>
                <a:gridCol w="5181840"/>
                <a:gridCol w="1371600"/>
                <a:gridCol w="1447560"/>
              </a:tblGrid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-Receita Bruta Esper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-Valor Financia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-Receita Líq. Esper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-65% Rec.Líq.Esper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-Vr.Enquadrado Ren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8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-Valor EnquadradoTo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6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.8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609480" y="990720"/>
            <a:ext cx="8001000" cy="685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EXEMPL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1676520"/>
            <a:ext cx="8077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09480" y="3073320"/>
          <a:ext cx="8001000" cy="1733400"/>
        </p:xfrm>
        <a:graphic>
          <a:graphicData uri="http://schemas.openxmlformats.org/drawingml/2006/table">
            <a:tbl>
              <a:tblPr/>
              <a:tblGrid>
                <a:gridCol w="5181840"/>
                <a:gridCol w="1371600"/>
                <a:gridCol w="144756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-Receitas Obtid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-Financiam. Ñ Aplica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00274e"/>
                          </a:solidFill>
                          <a:latin typeface="Arial"/>
                        </a:rPr>
                        <a:t>J-Cobertura </a:t>
                      </a:r>
                      <a:r>
                        <a:rPr b="1" lang="en-US" sz="2800" spc="-1" strike="noStrike">
                          <a:solidFill>
                            <a:srgbClr val="00274e"/>
                          </a:solidFill>
                          <a:latin typeface="Arial"/>
                          <a:ea typeface="Arial"/>
                        </a:rPr>
                        <a:t>[ F - ( G + I ) ]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00274e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274e"/>
                          </a:solidFill>
                          <a:latin typeface="Arial"/>
                        </a:rPr>
                        <a:t>1.1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00274e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274e"/>
                          </a:solidFill>
                          <a:latin typeface="Arial"/>
                        </a:rPr>
                        <a:t>3.8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09480" y="1066680"/>
          <a:ext cx="8001000" cy="1733400"/>
        </p:xfrm>
        <a:graphic>
          <a:graphicData uri="http://schemas.openxmlformats.org/drawingml/2006/table">
            <a:tbl>
              <a:tblPr/>
              <a:tblGrid>
                <a:gridCol w="5181840"/>
                <a:gridCol w="1371600"/>
                <a:gridCol w="144756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-Receita Bruta Esper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-Valor Financia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00274e"/>
                          </a:solidFill>
                          <a:latin typeface="Arial"/>
                        </a:rPr>
                        <a:t>F-Valor Enquadrado To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00274e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274e"/>
                          </a:solidFill>
                          <a:latin typeface="Arial"/>
                        </a:rPr>
                        <a:t>2.6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00274e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274e"/>
                          </a:solidFill>
                          <a:latin typeface="Arial"/>
                        </a:rPr>
                        <a:t>8.8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609480" y="457200"/>
            <a:ext cx="8001000" cy="6094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EXEMPLOS – 50% Perd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609480" y="4902120"/>
          <a:ext cx="8001000" cy="1155600"/>
        </p:xfrm>
        <a:graphic>
          <a:graphicData uri="http://schemas.openxmlformats.org/drawingml/2006/table">
            <a:tbl>
              <a:tblPr/>
              <a:tblGrid>
                <a:gridCol w="5181840"/>
                <a:gridCol w="1371600"/>
                <a:gridCol w="144756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-Ren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8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-Financiamento ( J - K 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609480" y="3073320"/>
          <a:ext cx="8001000" cy="1733760"/>
        </p:xfrm>
        <a:graphic>
          <a:graphicData uri="http://schemas.openxmlformats.org/drawingml/2006/table">
            <a:tbl>
              <a:tblPr/>
              <a:tblGrid>
                <a:gridCol w="5181840"/>
                <a:gridCol w="1371600"/>
                <a:gridCol w="144756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-Receitas Obtid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-Financiam. Ñ Aplica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00274e"/>
                          </a:solidFill>
                          <a:latin typeface="Arial"/>
                        </a:rPr>
                        <a:t>J-Cobertura </a:t>
                      </a:r>
                      <a:r>
                        <a:rPr b="1" lang="en-US" sz="2800" spc="-1" strike="noStrike">
                          <a:solidFill>
                            <a:srgbClr val="00274e"/>
                          </a:solidFill>
                          <a:latin typeface="Arial"/>
                          <a:ea typeface="Arial"/>
                        </a:rPr>
                        <a:t>[ F - ( G + I ) ]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00274e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274e"/>
                          </a:solidFill>
                          <a:latin typeface="Arial"/>
                        </a:rPr>
                        <a:t>2.3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00274e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274e"/>
                          </a:solidFill>
                          <a:latin typeface="Arial"/>
                        </a:rPr>
                        <a:t>7.7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609480" y="1066680"/>
          <a:ext cx="8001000" cy="1733400"/>
        </p:xfrm>
        <a:graphic>
          <a:graphicData uri="http://schemas.openxmlformats.org/drawingml/2006/table">
            <a:tbl>
              <a:tblPr/>
              <a:tblGrid>
                <a:gridCol w="5181840"/>
                <a:gridCol w="1371600"/>
                <a:gridCol w="144756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-Receita Bruta Esper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-Valor Financia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00274e"/>
                          </a:solidFill>
                          <a:latin typeface="Arial"/>
                        </a:rPr>
                        <a:t>F-Valor Enquadrado To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00274e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274e"/>
                          </a:solidFill>
                          <a:latin typeface="Arial"/>
                        </a:rPr>
                        <a:t>2.6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00274e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274e"/>
                          </a:solidFill>
                          <a:latin typeface="Arial"/>
                        </a:rPr>
                        <a:t>8.8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609480" y="457200"/>
            <a:ext cx="8001000" cy="6094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EXEMPLOS – 100% Perd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09480" y="4902120"/>
          <a:ext cx="8001000" cy="1155960"/>
        </p:xfrm>
        <a:graphic>
          <a:graphicData uri="http://schemas.openxmlformats.org/drawingml/2006/table">
            <a:tbl>
              <a:tblPr/>
              <a:tblGrid>
                <a:gridCol w="5181840"/>
                <a:gridCol w="1371600"/>
                <a:gridCol w="144756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-Ren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8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-Financiamento ( J - K 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7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476280"/>
            <a:ext cx="8918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DMINISTRAÇÃO PROAGRO / SEAF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BANCO CENTRAL DO BRASIL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573360"/>
            <a:ext cx="8918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GENTES PROAGRO / SEAF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Instituições financeiras autorizadas a operar em crédito rural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476280"/>
            <a:ext cx="8918640" cy="62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BENEFICIÁRIOS PROAGR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rodutores rurais e suas cooperativa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BENEFICIÁRIOS SEAF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gricultores familiares que tomam financiamento de custeio no PRONAF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95280" y="981000"/>
            <a:ext cx="84088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6200" y="285840"/>
            <a:ext cx="8767800" cy="71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brigações do beneficiári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Utilizar tecnologia capaz de assegurar, no mínimo a obtenção dos rendimentos programado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ntregar ao agente, croqui ou mapa localização áre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ntregar orçamento analítico das despesas previstas – ATÉ 30/06/2008 SOMENTE PARA PROGER E DEM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A PARTIR DE 01/07/2008  PARA PRONAF SERÁ NECESSÁRIO APRESENTAR O ORÇAMENTO SIMPLIFICAD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95280" y="981000"/>
            <a:ext cx="84088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6200" y="285840"/>
            <a:ext cx="8767800" cy="69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perações contratadas a partir de 01/07/2008, para empreendimentos &gt;= R$ 12.000,00 apresentar análise química do solo com até dois anos de emissão e análise física do solo com até 4 anos de emissão, com indicação do tipo de solo, e recomendação de uso de insum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A partir de 01/07/2009, para empreendimentos &gt;= R$ 8.000,00 – providenciar análise química de solo com até 2 anos de emissão e análise física do solo com até 4 anos de emissão, com indicação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89000"/>
            <a:ext cx="8532720" cy="82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ntregar os comprovantes de aquisição de insumos utilizados, quando comunicar a ocorrência de perd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Para PRONAF, até 30/06/2008 está dispensado a entrega dos comprovantes, devendo o beneficiário manter os comprovantes em seu po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66ff33"/>
              </a:buClr>
              <a:buFont typeface="Comic Sans MS"/>
              <a:buAutoNum type="alpha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mite-se como comprovante de insumos: a primeira via da nota fiscal, nominal ao beneficiário, ou cópia autenticada pelo agente ou em cartór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4000" y="549360"/>
            <a:ext cx="8532720" cy="67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Quando se tratar de insumos de fabricação própria, 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monstrar a estrutura de fabricação,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evendo ainda estar especificado no orçamento analític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Para PRONAF não há necessidade de constar no orçamento analític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89000"/>
            <a:ext cx="8532720" cy="74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mite-se declaração do beneficiário como comprovante de utilização de sementes no caso de lavouras formadas com grãos reservados – Lei 10.711 de 5/8/2003 e Decreto 5153 de 23/08/2004, desde qu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evisão de uso no orçament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presentar Nota Fiscal de aquisição de semente certificada no ano anterio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Quando se tratar de cultivar protegida, deve ser proveniente de áreas inscritas no MAP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23:05:50Z</dcterms:created>
  <dc:creator>usuario</dc:creator>
  <dc:description/>
  <dc:language>en-US</dc:language>
  <cp:lastModifiedBy>Banco do Brasil</cp:lastModifiedBy>
  <dcterms:modified xsi:type="dcterms:W3CDTF">2008-07-09T02:55:45Z</dcterms:modified>
  <cp:revision>21</cp:revision>
  <dc:subject/>
  <dc:title>Slide 1</dc:title>
</cp:coreProperties>
</file>